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bin Bol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1"/>
          <p:cNvSpPr/>
          <p:nvPr/>
        </p:nvSpPr>
        <p:spPr>
          <a:xfrm>
            <a:off x="0" y="0"/>
            <a:ext cx="5567400" cy="6858000"/>
          </a:xfrm>
          <a:prstGeom prst="rect">
            <a:avLst/>
          </a:pr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Freeform: Shape 1"/>
          <p:cNvSpPr/>
          <p:nvPr/>
        </p:nvSpPr>
        <p:spPr>
          <a:xfrm>
            <a:off x="7010280" y="1324080"/>
            <a:ext cx="2105280" cy="4209840"/>
          </a:xfrm>
          <a:custGeom>
            <a:avLst/>
            <a:gdLst/>
            <a:ahLst/>
            <a:rect l="l" t="t" r="r" b="b"/>
            <a:pathLst>
              <a:path w="2771776" h="5543550">
                <a:moveTo>
                  <a:pt x="1" y="0"/>
                </a:moveTo>
                <a:cubicBezTo>
                  <a:pt x="1530810" y="0"/>
                  <a:pt x="2771776" y="1240966"/>
                  <a:pt x="2771776" y="2771775"/>
                </a:cubicBezTo>
                <a:cubicBezTo>
                  <a:pt x="2771776" y="4302584"/>
                  <a:pt x="1530810" y="5543550"/>
                  <a:pt x="1" y="5543550"/>
                </a:cubicBezTo>
                <a:lnTo>
                  <a:pt x="1" y="4371975"/>
                </a:lnTo>
                <a:lnTo>
                  <a:pt x="0" y="4371975"/>
                </a:lnTo>
                <a:lnTo>
                  <a:pt x="0" y="714375"/>
                </a:lnTo>
                <a:lnTo>
                  <a:pt x="1" y="714375"/>
                </a:lnTo>
                <a:lnTo>
                  <a:pt x="1" y="0"/>
                </a:lnTo>
                <a:close/>
              </a:path>
            </a:pathLst>
          </a:custGeom>
          <a:solidFill>
            <a:srgbClr val="ec8d0e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Freeform: Shape 7"/>
          <p:cNvSpPr/>
          <p:nvPr/>
        </p:nvSpPr>
        <p:spPr>
          <a:xfrm>
            <a:off x="0" y="768240"/>
            <a:ext cx="5867280" cy="6089760"/>
          </a:xfrm>
          <a:custGeom>
            <a:avLst/>
            <a:gdLst/>
            <a:ahLst/>
            <a:rect l="l" t="t" r="r" b="b"/>
            <a:pathLst>
              <a:path w="5867400" h="6090219">
                <a:moveTo>
                  <a:pt x="0" y="0"/>
                </a:moveTo>
                <a:lnTo>
                  <a:pt x="85100" y="2152"/>
                </a:lnTo>
                <a:cubicBezTo>
                  <a:pt x="3306043" y="165422"/>
                  <a:pt x="5867400" y="2828701"/>
                  <a:pt x="5867400" y="6090219"/>
                </a:cubicBezTo>
                <a:lnTo>
                  <a:pt x="2819400" y="6090219"/>
                </a:lnTo>
                <a:cubicBezTo>
                  <a:pt x="2819400" y="4512065"/>
                  <a:pt x="1620014" y="3214045"/>
                  <a:pt x="83041" y="3057957"/>
                </a:cubicBezTo>
                <a:lnTo>
                  <a:pt x="0" y="3051642"/>
                </a:lnTo>
                <a:lnTo>
                  <a:pt x="0" y="0"/>
                </a:lnTo>
                <a:close/>
              </a:path>
            </a:pathLst>
          </a:cu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pic>
        <p:nvPicPr>
          <p:cNvPr id="410" name="Picture 2" descr=""/>
          <p:cNvPicPr/>
          <p:nvPr/>
        </p:nvPicPr>
        <p:blipFill>
          <a:blip r:embed="rId2"/>
          <a:stretch/>
        </p:blipFill>
        <p:spPr>
          <a:xfrm>
            <a:off x="966960" y="731880"/>
            <a:ext cx="5357520" cy="535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1"/>
          <p:cNvSpPr/>
          <p:nvPr/>
        </p:nvSpPr>
        <p:spPr>
          <a:xfrm>
            <a:off x="9737640" y="0"/>
            <a:ext cx="2454480" cy="6858000"/>
          </a:xfrm>
          <a:prstGeom prst="rect">
            <a:avLst/>
          </a:pr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pic>
        <p:nvPicPr>
          <p:cNvPr id="448" name="Picture 2" descr=""/>
          <p:cNvPicPr/>
          <p:nvPr/>
        </p:nvPicPr>
        <p:blipFill>
          <a:blip r:embed="rId2"/>
          <a:stretch/>
        </p:blipFill>
        <p:spPr>
          <a:xfrm>
            <a:off x="5638680" y="1044720"/>
            <a:ext cx="8348760" cy="5041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1"/>
          <p:cNvSpPr/>
          <p:nvPr/>
        </p:nvSpPr>
        <p:spPr>
          <a:xfrm>
            <a:off x="0" y="0"/>
            <a:ext cx="3384720" cy="6858000"/>
          </a:xfrm>
          <a:prstGeom prst="rect">
            <a:avLst/>
          </a:pr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pic>
        <p:nvPicPr>
          <p:cNvPr id="486" name="Picture 2" descr=""/>
          <p:cNvPicPr/>
          <p:nvPr/>
        </p:nvPicPr>
        <p:blipFill>
          <a:blip r:embed="rId2"/>
          <a:stretch/>
        </p:blipFill>
        <p:spPr>
          <a:xfrm>
            <a:off x="614520" y="770040"/>
            <a:ext cx="5661000" cy="566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Freeform: Shape 1"/>
          <p:cNvSpPr/>
          <p:nvPr/>
        </p:nvSpPr>
        <p:spPr>
          <a:xfrm flipH="1">
            <a:off x="8660520" y="644400"/>
            <a:ext cx="2845080" cy="5569200"/>
          </a:xfrm>
          <a:custGeom>
            <a:avLst/>
            <a:gdLst/>
            <a:ahLst/>
            <a:rect l="l" t="t" r="r" b="b"/>
            <a:pathLst>
              <a:path w="2419349" h="4734091">
                <a:moveTo>
                  <a:pt x="2367045" y="0"/>
                </a:moveTo>
                <a:lnTo>
                  <a:pt x="2419349" y="2498"/>
                </a:lnTo>
                <a:lnTo>
                  <a:pt x="2419349" y="4731593"/>
                </a:lnTo>
                <a:lnTo>
                  <a:pt x="2367045" y="4734091"/>
                </a:lnTo>
                <a:cubicBezTo>
                  <a:pt x="1761265" y="4734091"/>
                  <a:pt x="1155485" y="4502993"/>
                  <a:pt x="693291" y="4040799"/>
                </a:cubicBezTo>
                <a:cubicBezTo>
                  <a:pt x="-231097" y="3116410"/>
                  <a:pt x="-231097" y="1617680"/>
                  <a:pt x="693291" y="693292"/>
                </a:cubicBezTo>
                <a:cubicBezTo>
                  <a:pt x="1155485" y="231098"/>
                  <a:pt x="1761265" y="0"/>
                  <a:pt x="2367045" y="0"/>
                </a:cubicBezTo>
                <a:close/>
              </a:path>
            </a:pathLst>
          </a:cu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pic>
        <p:nvPicPr>
          <p:cNvPr id="524" name="Picture 2" descr=""/>
          <p:cNvPicPr/>
          <p:nvPr/>
        </p:nvPicPr>
        <p:blipFill>
          <a:blip r:embed="rId2"/>
          <a:stretch/>
        </p:blipFill>
        <p:spPr>
          <a:xfrm>
            <a:off x="5851440" y="1198440"/>
            <a:ext cx="4940280" cy="494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1"/>
          <p:cNvSpPr/>
          <p:nvPr/>
        </p:nvSpPr>
        <p:spPr>
          <a:xfrm>
            <a:off x="0" y="0"/>
            <a:ext cx="4230720" cy="6858000"/>
          </a:xfrm>
          <a:prstGeom prst="rect">
            <a:avLst/>
          </a:pr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1"/>
          <p:cNvSpPr/>
          <p:nvPr/>
        </p:nvSpPr>
        <p:spPr>
          <a:xfrm>
            <a:off x="7010280" y="0"/>
            <a:ext cx="5181840" cy="6858000"/>
          </a:xfrm>
          <a:prstGeom prst="rect">
            <a:avLst/>
          </a:pr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Freeform: Shape 1"/>
          <p:cNvSpPr/>
          <p:nvPr/>
        </p:nvSpPr>
        <p:spPr>
          <a:xfrm>
            <a:off x="636480" y="835200"/>
            <a:ext cx="2759040" cy="2784240"/>
          </a:xfrm>
          <a:custGeom>
            <a:avLst/>
            <a:gdLst/>
            <a:ahLst/>
            <a:rect l="l" t="t" r="r" b="b"/>
            <a:pathLst>
              <a:path w="2477127" h="2499398">
                <a:moveTo>
                  <a:pt x="2477127" y="0"/>
                </a:moveTo>
                <a:lnTo>
                  <a:pt x="2477127" y="2499398"/>
                </a:lnTo>
                <a:lnTo>
                  <a:pt x="0" y="2499398"/>
                </a:lnTo>
                <a:lnTo>
                  <a:pt x="11358" y="2259505"/>
                </a:lnTo>
                <a:cubicBezTo>
                  <a:pt x="124079" y="1075227"/>
                  <a:pt x="1062789" y="131777"/>
                  <a:pt x="2244914" y="11725"/>
                </a:cubicBezTo>
                <a:lnTo>
                  <a:pt x="2477127" y="0"/>
                </a:lnTo>
                <a:close/>
              </a:path>
            </a:pathLst>
          </a:cu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reeform: Shape 1"/>
          <p:cNvSpPr/>
          <p:nvPr/>
        </p:nvSpPr>
        <p:spPr>
          <a:xfrm flipH="1">
            <a:off x="5864400" y="1197000"/>
            <a:ext cx="3108240" cy="3108240"/>
          </a:xfrm>
          <a:custGeom>
            <a:avLst/>
            <a:gdLst/>
            <a:ahLst/>
            <a:rect l="l" t="t" r="r" b="b"/>
            <a:pathLst>
              <a:path w="1692442" h="1692442">
                <a:moveTo>
                  <a:pt x="0" y="0"/>
                </a:moveTo>
                <a:cubicBezTo>
                  <a:pt x="934710" y="0"/>
                  <a:pt x="1692442" y="757732"/>
                  <a:pt x="1692442" y="1692442"/>
                </a:cubicBezTo>
                <a:lnTo>
                  <a:pt x="0" y="1692442"/>
                </a:lnTo>
                <a:lnTo>
                  <a:pt x="0" y="0"/>
                </a:lnTo>
                <a:close/>
              </a:path>
            </a:pathLst>
          </a:cu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reeform: Shape 1"/>
          <p:cNvSpPr/>
          <p:nvPr/>
        </p:nvSpPr>
        <p:spPr>
          <a:xfrm>
            <a:off x="6248520" y="1071720"/>
            <a:ext cx="4714920" cy="4714560"/>
          </a:xfrm>
          <a:custGeom>
            <a:avLst/>
            <a:gdLst/>
            <a:ahLst/>
            <a:rect l="l" t="t" r="r" b="b"/>
            <a:pathLst>
              <a:path w="4734090" h="4734091">
                <a:moveTo>
                  <a:pt x="2367045" y="0"/>
                </a:moveTo>
                <a:cubicBezTo>
                  <a:pt x="2972825" y="0"/>
                  <a:pt x="3578604" y="231098"/>
                  <a:pt x="4040799" y="693292"/>
                </a:cubicBezTo>
                <a:cubicBezTo>
                  <a:pt x="4965187" y="1617680"/>
                  <a:pt x="4965187" y="3116410"/>
                  <a:pt x="4040799" y="4040799"/>
                </a:cubicBezTo>
                <a:cubicBezTo>
                  <a:pt x="3578604" y="4502993"/>
                  <a:pt x="2972825" y="4734091"/>
                  <a:pt x="2367045" y="4734091"/>
                </a:cubicBezTo>
                <a:cubicBezTo>
                  <a:pt x="1761265" y="4734091"/>
                  <a:pt x="1155485" y="4502993"/>
                  <a:pt x="693291" y="4040799"/>
                </a:cubicBezTo>
                <a:cubicBezTo>
                  <a:pt x="-231097" y="3116410"/>
                  <a:pt x="-231097" y="1617680"/>
                  <a:pt x="693291" y="693292"/>
                </a:cubicBezTo>
                <a:cubicBezTo>
                  <a:pt x="1155485" y="231098"/>
                  <a:pt x="1761266" y="0"/>
                  <a:pt x="2367045" y="0"/>
                </a:cubicBezTo>
                <a:close/>
              </a:path>
            </a:pathLst>
          </a:cu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reeform: Shape 1"/>
          <p:cNvSpPr/>
          <p:nvPr/>
        </p:nvSpPr>
        <p:spPr>
          <a:xfrm>
            <a:off x="1380960" y="1071720"/>
            <a:ext cx="4714920" cy="4714560"/>
          </a:xfrm>
          <a:custGeom>
            <a:avLst/>
            <a:gdLst/>
            <a:ahLst/>
            <a:rect l="l" t="t" r="r" b="b"/>
            <a:pathLst>
              <a:path w="4734090" h="4734091">
                <a:moveTo>
                  <a:pt x="2367045" y="0"/>
                </a:moveTo>
                <a:cubicBezTo>
                  <a:pt x="2972825" y="0"/>
                  <a:pt x="3578604" y="231098"/>
                  <a:pt x="4040799" y="693292"/>
                </a:cubicBezTo>
                <a:cubicBezTo>
                  <a:pt x="4965187" y="1617680"/>
                  <a:pt x="4965187" y="3116410"/>
                  <a:pt x="4040799" y="4040799"/>
                </a:cubicBezTo>
                <a:cubicBezTo>
                  <a:pt x="3578604" y="4502993"/>
                  <a:pt x="2972825" y="4734091"/>
                  <a:pt x="2367045" y="4734091"/>
                </a:cubicBezTo>
                <a:cubicBezTo>
                  <a:pt x="1761265" y="4734091"/>
                  <a:pt x="1155485" y="4502993"/>
                  <a:pt x="693291" y="4040799"/>
                </a:cubicBezTo>
                <a:cubicBezTo>
                  <a:pt x="-231097" y="3116410"/>
                  <a:pt x="-231097" y="1617680"/>
                  <a:pt x="693291" y="693292"/>
                </a:cubicBezTo>
                <a:cubicBezTo>
                  <a:pt x="1155485" y="231098"/>
                  <a:pt x="1761266" y="0"/>
                  <a:pt x="2367045" y="0"/>
                </a:cubicBezTo>
                <a:close/>
              </a:path>
            </a:pathLst>
          </a:cu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reeform: Shape 1"/>
          <p:cNvSpPr/>
          <p:nvPr/>
        </p:nvSpPr>
        <p:spPr>
          <a:xfrm rot="10800000">
            <a:off x="781200" y="1098360"/>
            <a:ext cx="2179440" cy="984240"/>
          </a:xfrm>
          <a:custGeom>
            <a:avLst/>
            <a:gdLst/>
            <a:ahLst/>
            <a:rect l="l" t="t" r="r" b="b"/>
            <a:pathLst>
              <a:path w="2179796" h="984278">
                <a:moveTo>
                  <a:pt x="0" y="0"/>
                </a:moveTo>
                <a:lnTo>
                  <a:pt x="2179796" y="0"/>
                </a:lnTo>
                <a:lnTo>
                  <a:pt x="2169254" y="104578"/>
                </a:lnTo>
                <a:cubicBezTo>
                  <a:pt x="2066521" y="606622"/>
                  <a:pt x="1622312" y="984278"/>
                  <a:pt x="1089898" y="984278"/>
                </a:cubicBezTo>
                <a:cubicBezTo>
                  <a:pt x="557484" y="984278"/>
                  <a:pt x="113276" y="606622"/>
                  <a:pt x="10543" y="104578"/>
                </a:cubicBezTo>
                <a:lnTo>
                  <a:pt x="0" y="0"/>
                </a:lnTo>
                <a:close/>
              </a:path>
            </a:pathLst>
          </a:cu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85" name="Freeform: Shape 2"/>
          <p:cNvSpPr/>
          <p:nvPr/>
        </p:nvSpPr>
        <p:spPr>
          <a:xfrm rot="5400000">
            <a:off x="1152360" y="4206600"/>
            <a:ext cx="2203560" cy="1238400"/>
          </a:xfrm>
          <a:custGeom>
            <a:avLst/>
            <a:gdLst/>
            <a:ahLst/>
            <a:rect l="l" t="t" r="r" b="b"/>
            <a:pathLst>
              <a:path w="2203478" h="1238250">
                <a:moveTo>
                  <a:pt x="1101739" y="0"/>
                </a:moveTo>
                <a:cubicBezTo>
                  <a:pt x="1710212" y="0"/>
                  <a:pt x="2203478" y="493266"/>
                  <a:pt x="2203478" y="1101739"/>
                </a:cubicBezTo>
                <a:lnTo>
                  <a:pt x="2189717" y="1238250"/>
                </a:lnTo>
                <a:lnTo>
                  <a:pt x="13762" y="1238250"/>
                </a:lnTo>
                <a:lnTo>
                  <a:pt x="0" y="1101739"/>
                </a:lnTo>
                <a:cubicBezTo>
                  <a:pt x="0" y="493266"/>
                  <a:pt x="493266" y="0"/>
                  <a:pt x="1101739" y="0"/>
                </a:cubicBezTo>
                <a:close/>
              </a:path>
            </a:pathLst>
          </a:cu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86" name="Freeform: Shape 3"/>
          <p:cNvSpPr/>
          <p:nvPr/>
        </p:nvSpPr>
        <p:spPr>
          <a:xfrm rot="5400000">
            <a:off x="2878200" y="1697040"/>
            <a:ext cx="2180880" cy="984240"/>
          </a:xfrm>
          <a:custGeom>
            <a:avLst/>
            <a:gdLst/>
            <a:ahLst/>
            <a:rect l="l" t="t" r="r" b="b"/>
            <a:pathLst>
              <a:path w="2179796" h="984278">
                <a:moveTo>
                  <a:pt x="0" y="0"/>
                </a:moveTo>
                <a:lnTo>
                  <a:pt x="2179796" y="0"/>
                </a:lnTo>
                <a:lnTo>
                  <a:pt x="2169254" y="104578"/>
                </a:lnTo>
                <a:cubicBezTo>
                  <a:pt x="2066521" y="606622"/>
                  <a:pt x="1622312" y="984278"/>
                  <a:pt x="1089898" y="984278"/>
                </a:cubicBezTo>
                <a:cubicBezTo>
                  <a:pt x="557484" y="984278"/>
                  <a:pt x="113276" y="606622"/>
                  <a:pt x="10543" y="104578"/>
                </a:cubicBezTo>
                <a:lnTo>
                  <a:pt x="0" y="0"/>
                </a:lnTo>
                <a:close/>
              </a:path>
            </a:pathLst>
          </a:cu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87" name="Freeform: Shape 4"/>
          <p:cNvSpPr/>
          <p:nvPr/>
        </p:nvSpPr>
        <p:spPr>
          <a:xfrm rot="10800000">
            <a:off x="3377880" y="4687560"/>
            <a:ext cx="2203560" cy="1238040"/>
          </a:xfrm>
          <a:custGeom>
            <a:avLst/>
            <a:gdLst/>
            <a:ahLst/>
            <a:rect l="l" t="t" r="r" b="b"/>
            <a:pathLst>
              <a:path w="2203478" h="1238250">
                <a:moveTo>
                  <a:pt x="1101739" y="0"/>
                </a:moveTo>
                <a:cubicBezTo>
                  <a:pt x="1710212" y="0"/>
                  <a:pt x="2203478" y="493266"/>
                  <a:pt x="2203478" y="1101739"/>
                </a:cubicBezTo>
                <a:lnTo>
                  <a:pt x="2189717" y="1238250"/>
                </a:lnTo>
                <a:lnTo>
                  <a:pt x="13762" y="1238250"/>
                </a:lnTo>
                <a:lnTo>
                  <a:pt x="0" y="1101739"/>
                </a:lnTo>
                <a:cubicBezTo>
                  <a:pt x="0" y="493266"/>
                  <a:pt x="493266" y="0"/>
                  <a:pt x="1101739" y="0"/>
                </a:cubicBezTo>
                <a:close/>
              </a:path>
            </a:pathLst>
          </a:cu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Freeform: Shape 1"/>
          <p:cNvSpPr/>
          <p:nvPr/>
        </p:nvSpPr>
        <p:spPr>
          <a:xfrm>
            <a:off x="6934320" y="0"/>
            <a:ext cx="5257800" cy="6858000"/>
          </a:xfrm>
          <a:custGeom>
            <a:avLst/>
            <a:gdLst/>
            <a:ahLst/>
            <a:rect l="l" t="t" r="r" b="b"/>
            <a:pathLst>
              <a:path w="4192235" h="5467350">
                <a:moveTo>
                  <a:pt x="0" y="0"/>
                </a:moveTo>
                <a:lnTo>
                  <a:pt x="2734275" y="0"/>
                </a:lnTo>
                <a:lnTo>
                  <a:pt x="3829244" y="0"/>
                </a:lnTo>
                <a:lnTo>
                  <a:pt x="4192235" y="0"/>
                </a:lnTo>
                <a:lnTo>
                  <a:pt x="4192235" y="5467350"/>
                </a:lnTo>
                <a:lnTo>
                  <a:pt x="3829244" y="5467350"/>
                </a:lnTo>
                <a:lnTo>
                  <a:pt x="2734275" y="5467350"/>
                </a:lnTo>
                <a:lnTo>
                  <a:pt x="0" y="5467350"/>
                </a:lnTo>
                <a:lnTo>
                  <a:pt x="109052" y="5277689"/>
                </a:lnTo>
                <a:cubicBezTo>
                  <a:pt x="519868" y="4521448"/>
                  <a:pt x="753220" y="3654813"/>
                  <a:pt x="753220" y="2733675"/>
                </a:cubicBezTo>
                <a:cubicBezTo>
                  <a:pt x="753220" y="1812538"/>
                  <a:pt x="519868" y="945903"/>
                  <a:pt x="109052" y="189661"/>
                </a:cubicBezTo>
                <a:lnTo>
                  <a:pt x="0" y="0"/>
                </a:lnTo>
                <a:close/>
              </a:path>
            </a:pathLst>
          </a:cu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Oval 1"/>
          <p:cNvSpPr/>
          <p:nvPr/>
        </p:nvSpPr>
        <p:spPr>
          <a:xfrm>
            <a:off x="615960" y="1434960"/>
            <a:ext cx="3908520" cy="3907080"/>
          </a:xfrm>
          <a:prstGeom prst="ellipse">
            <a:avLst/>
          </a:prstGeom>
          <a:solidFill>
            <a:srgbClr val="ec8d0e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"/>
          <p:cNvSpPr/>
          <p:nvPr/>
        </p:nvSpPr>
        <p:spPr>
          <a:xfrm>
            <a:off x="7715160" y="0"/>
            <a:ext cx="4476960" cy="6858000"/>
          </a:xfrm>
          <a:prstGeom prst="rect">
            <a:avLst/>
          </a:pr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Freeform: Shape 19"/>
          <p:cNvSpPr/>
          <p:nvPr/>
        </p:nvSpPr>
        <p:spPr>
          <a:xfrm>
            <a:off x="6438960" y="1166760"/>
            <a:ext cx="5753160" cy="5691240"/>
          </a:xfrm>
          <a:custGeom>
            <a:avLst/>
            <a:gdLst/>
            <a:ahLst/>
            <a:rect l="l" t="t" r="r" b="b"/>
            <a:pathLst>
              <a:path w="5753437" h="5690892">
                <a:moveTo>
                  <a:pt x="5753437" y="0"/>
                </a:moveTo>
                <a:lnTo>
                  <a:pt x="5753437" y="2960349"/>
                </a:lnTo>
                <a:lnTo>
                  <a:pt x="5490714" y="2985733"/>
                </a:lnTo>
                <a:cubicBezTo>
                  <a:pt x="4154800" y="3176970"/>
                  <a:pt x="3106732" y="4260302"/>
                  <a:pt x="2969372" y="5612862"/>
                </a:cubicBezTo>
                <a:lnTo>
                  <a:pt x="2965432" y="5690892"/>
                </a:lnTo>
                <a:lnTo>
                  <a:pt x="0" y="5690892"/>
                </a:lnTo>
                <a:lnTo>
                  <a:pt x="2023" y="5610863"/>
                </a:lnTo>
                <a:cubicBezTo>
                  <a:pt x="155454" y="2584050"/>
                  <a:pt x="2582428" y="157075"/>
                  <a:pt x="5609241" y="3646"/>
                </a:cubicBezTo>
                <a:lnTo>
                  <a:pt x="5753437" y="0"/>
                </a:lnTo>
                <a:close/>
              </a:path>
            </a:pathLst>
          </a:cu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grpSp>
        <p:nvGrpSpPr>
          <p:cNvPr id="636" name="Group 21"/>
          <p:cNvGrpSpPr/>
          <p:nvPr/>
        </p:nvGrpSpPr>
        <p:grpSpPr>
          <a:xfrm>
            <a:off x="11133000" y="5727600"/>
            <a:ext cx="465120" cy="465120"/>
            <a:chOff x="11133000" y="5727600"/>
            <a:chExt cx="465120" cy="465120"/>
          </a:xfrm>
        </p:grpSpPr>
        <p:sp>
          <p:nvSpPr>
            <p:cNvPr id="637" name="Freeform: Shape 18"/>
            <p:cNvSpPr/>
            <p:nvPr/>
          </p:nvSpPr>
          <p:spPr>
            <a:xfrm flipH="1">
              <a:off x="11133000" y="5727600"/>
              <a:ext cx="465120" cy="465120"/>
            </a:xfrm>
            <a:custGeom>
              <a:avLst/>
              <a:gdLst/>
              <a:ahLst/>
              <a:rect l="l" t="t" r="r" b="b"/>
              <a:pathLst>
                <a:path w="1692442" h="1692442">
                  <a:moveTo>
                    <a:pt x="0" y="0"/>
                  </a:moveTo>
                  <a:cubicBezTo>
                    <a:pt x="934710" y="0"/>
                    <a:pt x="1692442" y="757732"/>
                    <a:pt x="1692442" y="1692442"/>
                  </a:cubicBezTo>
                  <a:lnTo>
                    <a:pt x="0" y="16924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8d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Roboto"/>
              </a:endParaRPr>
            </a:p>
          </p:txBody>
        </p:sp>
        <p:sp>
          <p:nvSpPr>
            <p:cNvPr id="638" name="Freeform: Shape 20"/>
            <p:cNvSpPr/>
            <p:nvPr/>
          </p:nvSpPr>
          <p:spPr>
            <a:xfrm flipH="1">
              <a:off x="11270520" y="5865480"/>
              <a:ext cx="327240" cy="327240"/>
            </a:xfrm>
            <a:custGeom>
              <a:avLst/>
              <a:gdLst/>
              <a:ahLst/>
              <a:rect l="l" t="t" r="r" b="b"/>
              <a:pathLst>
                <a:path w="1692442" h="1692442">
                  <a:moveTo>
                    <a:pt x="0" y="0"/>
                  </a:moveTo>
                  <a:cubicBezTo>
                    <a:pt x="934710" y="0"/>
                    <a:pt x="1692442" y="757732"/>
                    <a:pt x="1692442" y="1692442"/>
                  </a:cubicBezTo>
                  <a:lnTo>
                    <a:pt x="0" y="16924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82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Roboto"/>
              </a:endParaRPr>
            </a:p>
          </p:txBody>
        </p:sp>
      </p:grpSp>
      <p:sp>
        <p:nvSpPr>
          <p:cNvPr id="639" name="Oval 1"/>
          <p:cNvSpPr/>
          <p:nvPr/>
        </p:nvSpPr>
        <p:spPr>
          <a:xfrm>
            <a:off x="609480" y="673200"/>
            <a:ext cx="123840" cy="123840"/>
          </a:xfrm>
          <a:prstGeom prst="ellipse">
            <a:avLst/>
          </a:pr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40" name="Oval 3"/>
          <p:cNvSpPr/>
          <p:nvPr/>
        </p:nvSpPr>
        <p:spPr>
          <a:xfrm>
            <a:off x="866880" y="673200"/>
            <a:ext cx="122040" cy="123840"/>
          </a:xfrm>
          <a:prstGeom prst="ellipse">
            <a:avLst/>
          </a:pr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41" name="Oval 5"/>
          <p:cNvSpPr/>
          <p:nvPr/>
        </p:nvSpPr>
        <p:spPr>
          <a:xfrm>
            <a:off x="1122480" y="673200"/>
            <a:ext cx="123840" cy="123840"/>
          </a:xfrm>
          <a:prstGeom prst="ellipse">
            <a:avLst/>
          </a:pr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42" name="Oval 7"/>
          <p:cNvSpPr/>
          <p:nvPr/>
        </p:nvSpPr>
        <p:spPr>
          <a:xfrm>
            <a:off x="866880" y="934920"/>
            <a:ext cx="122040" cy="123840"/>
          </a:xfrm>
          <a:prstGeom prst="ellipse">
            <a:avLst/>
          </a:pr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43" name="TextBox 22"/>
          <p:cNvSpPr/>
          <p:nvPr/>
        </p:nvSpPr>
        <p:spPr>
          <a:xfrm>
            <a:off x="528480" y="6024600"/>
            <a:ext cx="1646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9c6c6"/>
                </a:solidFill>
                <a:latin typeface="Roboto"/>
              </a:rPr>
              <a:t>The Firework Celebration</a:t>
            </a:r>
            <a:endParaRPr b="0" lang="en-US" sz="9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44" name="TextBox 23"/>
          <p:cNvSpPr/>
          <p:nvPr/>
        </p:nvSpPr>
        <p:spPr>
          <a:xfrm>
            <a:off x="10225080" y="64440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c6c6"/>
                </a:solidFill>
                <a:latin typeface="Roboto"/>
              </a:rPr>
              <a:t>Happy New Years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45" name="TextBox 2"/>
          <p:cNvSpPr/>
          <p:nvPr/>
        </p:nvSpPr>
        <p:spPr>
          <a:xfrm>
            <a:off x="1400040" y="2144880"/>
            <a:ext cx="474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abin Bold"/>
              </a:rPr>
              <a:t>FIREWORK</a:t>
            </a:r>
            <a:endParaRPr b="0" lang="en-US" sz="7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46" name="TextBox 11"/>
          <p:cNvSpPr/>
          <p:nvPr/>
        </p:nvSpPr>
        <p:spPr>
          <a:xfrm flipH="1">
            <a:off x="2021040" y="3268800"/>
            <a:ext cx="403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7e6e6"/>
                </a:solidFill>
                <a:latin typeface="Roboto"/>
              </a:rPr>
              <a:t>Creative For New Years Party</a:t>
            </a:r>
            <a:endParaRPr b="0" lang="en-US" sz="16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47" name="Rectangle 4"/>
          <p:cNvSpPr/>
          <p:nvPr/>
        </p:nvSpPr>
        <p:spPr>
          <a:xfrm>
            <a:off x="2219400" y="3414600"/>
            <a:ext cx="914400" cy="46080"/>
          </a:xfrm>
          <a:prstGeom prst="rect">
            <a:avLst/>
          </a:pr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48" name="Google Shape;44;p4"/>
          <p:cNvSpPr/>
          <p:nvPr/>
        </p:nvSpPr>
        <p:spPr>
          <a:xfrm>
            <a:off x="1461960" y="4118040"/>
            <a:ext cx="362268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ddd"/>
                </a:solidFill>
                <a:latin typeface="Roboto"/>
                <a:ea typeface="Raleway"/>
              </a:rPr>
              <a:t>Lorem ipsum dolor sit amet, conse lectus ornare, viverra ctetur adipiscing elit. Pellentesque scele risque male suada libero a pellent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49" name="Freeform: Shape 26"/>
          <p:cNvSpPr/>
          <p:nvPr/>
        </p:nvSpPr>
        <p:spPr>
          <a:xfrm flipH="1">
            <a:off x="1522440" y="1739880"/>
            <a:ext cx="403200" cy="401760"/>
          </a:xfrm>
          <a:custGeom>
            <a:avLst/>
            <a:gdLst/>
            <a:ahLst/>
            <a:rect l="l" t="t" r="r" b="b"/>
            <a:pathLst>
              <a:path w="1692442" h="1692442">
                <a:moveTo>
                  <a:pt x="0" y="0"/>
                </a:moveTo>
                <a:cubicBezTo>
                  <a:pt x="934710" y="0"/>
                  <a:pt x="1692442" y="757732"/>
                  <a:pt x="1692442" y="1692442"/>
                </a:cubicBezTo>
                <a:lnTo>
                  <a:pt x="0" y="1692442"/>
                </a:lnTo>
                <a:lnTo>
                  <a:pt x="0" y="0"/>
                </a:lnTo>
                <a:close/>
              </a:path>
            </a:pathLst>
          </a:cu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Freeform: Shape 6"/>
          <p:cNvSpPr/>
          <p:nvPr/>
        </p:nvSpPr>
        <p:spPr>
          <a:xfrm>
            <a:off x="6095880" y="1047600"/>
            <a:ext cx="2381400" cy="2381400"/>
          </a:xfrm>
          <a:custGeom>
            <a:avLst/>
            <a:gdLst/>
            <a:ahLst/>
            <a:rect l="l" t="t" r="r" b="b"/>
            <a:pathLst>
              <a:path w="1692442" h="1692442">
                <a:moveTo>
                  <a:pt x="0" y="0"/>
                </a:moveTo>
                <a:cubicBezTo>
                  <a:pt x="934710" y="0"/>
                  <a:pt x="1692442" y="757732"/>
                  <a:pt x="1692442" y="1692442"/>
                </a:cubicBezTo>
                <a:lnTo>
                  <a:pt x="0" y="1692442"/>
                </a:lnTo>
                <a:lnTo>
                  <a:pt x="0" y="0"/>
                </a:lnTo>
                <a:close/>
              </a:path>
            </a:pathLst>
          </a:custGeom>
          <a:solidFill>
            <a:srgbClr val="ec8d0e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53" name="Oval 1"/>
          <p:cNvSpPr/>
          <p:nvPr/>
        </p:nvSpPr>
        <p:spPr>
          <a:xfrm>
            <a:off x="609480" y="673200"/>
            <a:ext cx="123840" cy="123840"/>
          </a:xfrm>
          <a:prstGeom prst="ellipse">
            <a:avLst/>
          </a:pr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54" name="Oval 2"/>
          <p:cNvSpPr/>
          <p:nvPr/>
        </p:nvSpPr>
        <p:spPr>
          <a:xfrm>
            <a:off x="866880" y="673200"/>
            <a:ext cx="122040" cy="123840"/>
          </a:xfrm>
          <a:prstGeom prst="ellipse">
            <a:avLst/>
          </a:pr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55" name="Oval 4"/>
          <p:cNvSpPr/>
          <p:nvPr/>
        </p:nvSpPr>
        <p:spPr>
          <a:xfrm>
            <a:off x="1122480" y="673200"/>
            <a:ext cx="123840" cy="123840"/>
          </a:xfrm>
          <a:prstGeom prst="ellipse">
            <a:avLst/>
          </a:pr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56" name="Oval 8"/>
          <p:cNvSpPr/>
          <p:nvPr/>
        </p:nvSpPr>
        <p:spPr>
          <a:xfrm>
            <a:off x="866880" y="934920"/>
            <a:ext cx="122040" cy="123840"/>
          </a:xfrm>
          <a:prstGeom prst="ellipse">
            <a:avLst/>
          </a:pr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57" name="TextBox 10"/>
          <p:cNvSpPr/>
          <p:nvPr/>
        </p:nvSpPr>
        <p:spPr>
          <a:xfrm>
            <a:off x="528480" y="6024600"/>
            <a:ext cx="1646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9c6c6"/>
                </a:solidFill>
                <a:latin typeface="Roboto"/>
              </a:rPr>
              <a:t>The Firework Celebration</a:t>
            </a:r>
            <a:endParaRPr b="0" lang="en-US" sz="9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58" name="Google Shape;44;p4"/>
          <p:cNvSpPr/>
          <p:nvPr/>
        </p:nvSpPr>
        <p:spPr>
          <a:xfrm>
            <a:off x="1430280" y="3519360"/>
            <a:ext cx="4041720" cy="11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ddd"/>
                </a:solidFill>
                <a:latin typeface="Roboto"/>
                <a:ea typeface="Raleway"/>
              </a:rPr>
              <a:t>Lorem ipsum dolor sit amet, conse lectus ornare, viverra ctetur adipiscing elit. Pellentesque scelerisque male suada libero a pellentesque. Morbi orci sit amet, conse lectus ornare, viverra ctetur adipi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59" name="Freeform: Shape 5"/>
          <p:cNvSpPr/>
          <p:nvPr/>
        </p:nvSpPr>
        <p:spPr>
          <a:xfrm>
            <a:off x="1517760" y="4973760"/>
            <a:ext cx="1172880" cy="330120"/>
          </a:xfrm>
          <a:prstGeom prst="pie">
            <a:avLst/>
          </a:prstGeom>
          <a:solidFill>
            <a:srgbClr val="ec8d0e"/>
          </a:solidFill>
          <a:ln w="28440">
            <a:solidFill>
              <a:srgbClr val="ec8d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dfdddd"/>
                </a:solidFill>
                <a:latin typeface="Roboto"/>
              </a:rPr>
              <a:t>Next</a:t>
            </a:r>
            <a:endParaRPr b="0" lang="en-US" sz="10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60" name="Freeform: Shape 7"/>
          <p:cNvSpPr/>
          <p:nvPr/>
        </p:nvSpPr>
        <p:spPr>
          <a:xfrm>
            <a:off x="2922480" y="4973760"/>
            <a:ext cx="1173240" cy="330120"/>
          </a:xfrm>
          <a:prstGeom prst="pie">
            <a:avLst/>
          </a:prstGeom>
          <a:noFill/>
          <a:ln w="28440">
            <a:solidFill>
              <a:srgbClr val="ec8d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dfdddd"/>
                </a:solidFill>
                <a:latin typeface="Roboto"/>
              </a:rPr>
              <a:t>See More</a:t>
            </a:r>
            <a:endParaRPr b="0" lang="en-US" sz="10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61" name="TextBox 15"/>
          <p:cNvSpPr/>
          <p:nvPr/>
        </p:nvSpPr>
        <p:spPr>
          <a:xfrm>
            <a:off x="1433520" y="1557360"/>
            <a:ext cx="386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 Bold"/>
              </a:rPr>
              <a:t>The Services Of </a:t>
            </a:r>
            <a:r>
              <a:rPr b="0" lang="en-US" sz="3200" spc="-1" strike="noStrike">
                <a:solidFill>
                  <a:srgbClr val="ec8d0e"/>
                </a:solidFill>
                <a:latin typeface="Cabin Bold"/>
              </a:rPr>
              <a:t>Firework Agency.</a:t>
            </a:r>
            <a:endParaRPr b="0" lang="en-US" sz="32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Freeform: Shape 1"/>
          <p:cNvSpPr/>
          <p:nvPr/>
        </p:nvSpPr>
        <p:spPr>
          <a:xfrm>
            <a:off x="3379680" y="1539720"/>
            <a:ext cx="1944720" cy="1944720"/>
          </a:xfrm>
          <a:custGeom>
            <a:avLst/>
            <a:gdLst/>
            <a:ahLst/>
            <a:rect l="l" t="t" r="r" b="b"/>
            <a:pathLst>
              <a:path w="1692442" h="1692442">
                <a:moveTo>
                  <a:pt x="0" y="0"/>
                </a:moveTo>
                <a:cubicBezTo>
                  <a:pt x="934710" y="0"/>
                  <a:pt x="1692442" y="757732"/>
                  <a:pt x="1692442" y="1692442"/>
                </a:cubicBezTo>
                <a:lnTo>
                  <a:pt x="0" y="1692442"/>
                </a:lnTo>
                <a:lnTo>
                  <a:pt x="0" y="0"/>
                </a:lnTo>
                <a:close/>
              </a:path>
            </a:pathLst>
          </a:custGeom>
          <a:solidFill>
            <a:srgbClr val="ec8d0e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grpSp>
        <p:nvGrpSpPr>
          <p:cNvPr id="763" name="Group 3"/>
          <p:cNvGrpSpPr/>
          <p:nvPr/>
        </p:nvGrpSpPr>
        <p:grpSpPr>
          <a:xfrm>
            <a:off x="11133000" y="5727600"/>
            <a:ext cx="465120" cy="465120"/>
            <a:chOff x="11133000" y="5727600"/>
            <a:chExt cx="465120" cy="465120"/>
          </a:xfrm>
        </p:grpSpPr>
        <p:sp>
          <p:nvSpPr>
            <p:cNvPr id="764" name="Freeform: Shape 4"/>
            <p:cNvSpPr/>
            <p:nvPr/>
          </p:nvSpPr>
          <p:spPr>
            <a:xfrm flipH="1">
              <a:off x="11133000" y="5727600"/>
              <a:ext cx="465120" cy="465120"/>
            </a:xfrm>
            <a:custGeom>
              <a:avLst/>
              <a:gdLst/>
              <a:ahLst/>
              <a:rect l="l" t="t" r="r" b="b"/>
              <a:pathLst>
                <a:path w="1692442" h="1692442">
                  <a:moveTo>
                    <a:pt x="0" y="0"/>
                  </a:moveTo>
                  <a:cubicBezTo>
                    <a:pt x="934710" y="0"/>
                    <a:pt x="1692442" y="757732"/>
                    <a:pt x="1692442" y="1692442"/>
                  </a:cubicBezTo>
                  <a:lnTo>
                    <a:pt x="0" y="16924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8d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Roboto"/>
              </a:endParaRPr>
            </a:p>
          </p:txBody>
        </p:sp>
        <p:sp>
          <p:nvSpPr>
            <p:cNvPr id="765" name="Freeform: Shape 5"/>
            <p:cNvSpPr/>
            <p:nvPr/>
          </p:nvSpPr>
          <p:spPr>
            <a:xfrm flipH="1">
              <a:off x="11270520" y="5865480"/>
              <a:ext cx="327240" cy="327240"/>
            </a:xfrm>
            <a:custGeom>
              <a:avLst/>
              <a:gdLst/>
              <a:ahLst/>
              <a:rect l="l" t="t" r="r" b="b"/>
              <a:pathLst>
                <a:path w="1692442" h="1692442">
                  <a:moveTo>
                    <a:pt x="0" y="0"/>
                  </a:moveTo>
                  <a:cubicBezTo>
                    <a:pt x="934710" y="0"/>
                    <a:pt x="1692442" y="757732"/>
                    <a:pt x="1692442" y="1692442"/>
                  </a:cubicBezTo>
                  <a:lnTo>
                    <a:pt x="0" y="16924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82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Roboto"/>
              </a:endParaRPr>
            </a:p>
          </p:txBody>
        </p:sp>
      </p:grpSp>
      <p:sp>
        <p:nvSpPr>
          <p:cNvPr id="766" name="TextBox 6"/>
          <p:cNvSpPr/>
          <p:nvPr/>
        </p:nvSpPr>
        <p:spPr>
          <a:xfrm>
            <a:off x="10225080" y="64440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c6c6"/>
                </a:solidFill>
                <a:latin typeface="Roboto"/>
              </a:rPr>
              <a:t>Happy New Years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67" name="Google Shape;324;p16"/>
          <p:cNvSpPr/>
          <p:nvPr/>
        </p:nvSpPr>
        <p:spPr>
          <a:xfrm>
            <a:off x="6815160" y="3355920"/>
            <a:ext cx="391644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ddd"/>
                </a:solidFill>
                <a:latin typeface="Roboto"/>
                <a:ea typeface="Raleway"/>
              </a:rPr>
              <a:t>Lorem ipsum dolor sit amet, conse lectus ornare, vive rra ctetur adipiscing elit. Pellentesque scele risque male suada libero a pellentesque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68" name="Google Shape;325;p16"/>
          <p:cNvSpPr/>
          <p:nvPr/>
        </p:nvSpPr>
        <p:spPr>
          <a:xfrm>
            <a:off x="6802560" y="3116160"/>
            <a:ext cx="27748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7e6e6"/>
                </a:solidFill>
                <a:latin typeface="Roboto"/>
                <a:ea typeface="Raleway"/>
              </a:rPr>
              <a:t>Creative Plan here</a:t>
            </a:r>
            <a:endParaRPr b="0" lang="en-US" sz="16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69" name="Google Shape;326;p16"/>
          <p:cNvSpPr/>
          <p:nvPr/>
        </p:nvSpPr>
        <p:spPr>
          <a:xfrm>
            <a:off x="5983200" y="3043080"/>
            <a:ext cx="123048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7e6e6"/>
                </a:solidFill>
                <a:latin typeface="Roboto"/>
                <a:ea typeface="Raleway"/>
              </a:rPr>
              <a:t>01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70" name="Google Shape;324;p16"/>
          <p:cNvSpPr/>
          <p:nvPr/>
        </p:nvSpPr>
        <p:spPr>
          <a:xfrm>
            <a:off x="6815160" y="4740120"/>
            <a:ext cx="391644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ddd"/>
                </a:solidFill>
                <a:latin typeface="Roboto"/>
                <a:ea typeface="Raleway"/>
              </a:rPr>
              <a:t>Lorem ipsum dolor sit amet, conse lectus ornare, vive rra ctetur adipiscing elit. Pellentesque scele risque male suada libero a pellentesque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71" name="Google Shape;325;p16"/>
          <p:cNvSpPr/>
          <p:nvPr/>
        </p:nvSpPr>
        <p:spPr>
          <a:xfrm>
            <a:off x="6802560" y="4502160"/>
            <a:ext cx="27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7e6e6"/>
                </a:solidFill>
                <a:latin typeface="Roboto"/>
                <a:ea typeface="Raleway"/>
              </a:rPr>
              <a:t>Creative Plan here</a:t>
            </a:r>
            <a:endParaRPr b="0" lang="en-US" sz="16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72" name="Google Shape;326;p16"/>
          <p:cNvSpPr/>
          <p:nvPr/>
        </p:nvSpPr>
        <p:spPr>
          <a:xfrm>
            <a:off x="5983200" y="4427640"/>
            <a:ext cx="123048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7e6e6"/>
                </a:solidFill>
                <a:latin typeface="Roboto"/>
                <a:ea typeface="Raleway"/>
              </a:rPr>
              <a:t>02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73" name="TextBox 22"/>
          <p:cNvSpPr/>
          <p:nvPr/>
        </p:nvSpPr>
        <p:spPr>
          <a:xfrm>
            <a:off x="5983200" y="1509840"/>
            <a:ext cx="385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 Bold"/>
              </a:rPr>
              <a:t>Make The Creative </a:t>
            </a:r>
            <a:r>
              <a:rPr b="0" lang="en-US" sz="3200" spc="-1" strike="noStrike">
                <a:solidFill>
                  <a:srgbClr val="ec8d0e"/>
                </a:solidFill>
                <a:latin typeface="Cabin Bold"/>
              </a:rPr>
              <a:t>Planner For You.</a:t>
            </a:r>
            <a:endParaRPr b="0" lang="en-US" sz="32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Oval 1"/>
          <p:cNvSpPr/>
          <p:nvPr/>
        </p:nvSpPr>
        <p:spPr>
          <a:xfrm>
            <a:off x="609480" y="673200"/>
            <a:ext cx="123840" cy="123840"/>
          </a:xfrm>
          <a:prstGeom prst="ellipse">
            <a:avLst/>
          </a:pr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75" name="Oval 2"/>
          <p:cNvSpPr/>
          <p:nvPr/>
        </p:nvSpPr>
        <p:spPr>
          <a:xfrm>
            <a:off x="866880" y="673200"/>
            <a:ext cx="122040" cy="123840"/>
          </a:xfrm>
          <a:prstGeom prst="ellipse">
            <a:avLst/>
          </a:pr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76" name="Oval 4"/>
          <p:cNvSpPr/>
          <p:nvPr/>
        </p:nvSpPr>
        <p:spPr>
          <a:xfrm>
            <a:off x="1122480" y="673200"/>
            <a:ext cx="123840" cy="123840"/>
          </a:xfrm>
          <a:prstGeom prst="ellipse">
            <a:avLst/>
          </a:pr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77" name="Oval 6"/>
          <p:cNvSpPr/>
          <p:nvPr/>
        </p:nvSpPr>
        <p:spPr>
          <a:xfrm>
            <a:off x="866880" y="934920"/>
            <a:ext cx="122040" cy="123840"/>
          </a:xfrm>
          <a:prstGeom prst="ellipse">
            <a:avLst/>
          </a:pr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78" name="TextBox 10"/>
          <p:cNvSpPr/>
          <p:nvPr/>
        </p:nvSpPr>
        <p:spPr>
          <a:xfrm>
            <a:off x="528480" y="6024600"/>
            <a:ext cx="1646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9c6c6"/>
                </a:solidFill>
                <a:latin typeface="Roboto"/>
              </a:rPr>
              <a:t>The Firework Celebration</a:t>
            </a:r>
            <a:endParaRPr b="0" lang="en-US" sz="9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79" name="Rectangle 5"/>
          <p:cNvSpPr/>
          <p:nvPr/>
        </p:nvSpPr>
        <p:spPr>
          <a:xfrm>
            <a:off x="1440000" y="3551400"/>
            <a:ext cx="2225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dfdddd"/>
                </a:solidFill>
                <a:latin typeface="Roboto"/>
              </a:rPr>
              <a:t>Lorem ipsum dolor sit amet conse ctetur adipiscing elit.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80" name="TextBox 7"/>
          <p:cNvSpPr/>
          <p:nvPr/>
        </p:nvSpPr>
        <p:spPr>
          <a:xfrm flipH="1">
            <a:off x="1433520" y="3086280"/>
            <a:ext cx="220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7e6e6"/>
                </a:solidFill>
                <a:latin typeface="Roboto"/>
              </a:rPr>
              <a:t>Quality Services</a:t>
            </a:r>
            <a:endParaRPr b="0" lang="en-US" sz="16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81" name="Rectangle 15"/>
          <p:cNvSpPr/>
          <p:nvPr/>
        </p:nvSpPr>
        <p:spPr>
          <a:xfrm>
            <a:off x="1433520" y="3290760"/>
            <a:ext cx="17557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200" spc="-1" strike="noStrike">
                <a:solidFill>
                  <a:srgbClr val="dfdddd"/>
                </a:solidFill>
                <a:latin typeface="Roboto"/>
              </a:rPr>
              <a:t>Insert Text Here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82" name="Rectangle 17"/>
          <p:cNvSpPr/>
          <p:nvPr/>
        </p:nvSpPr>
        <p:spPr>
          <a:xfrm>
            <a:off x="1440000" y="5037120"/>
            <a:ext cx="2225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dfdddd"/>
                </a:solidFill>
                <a:latin typeface="Roboto"/>
              </a:rPr>
              <a:t>Lorem ipsum dolor sit amet conse ctetur adipiscing elit.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83" name="TextBox 19"/>
          <p:cNvSpPr/>
          <p:nvPr/>
        </p:nvSpPr>
        <p:spPr>
          <a:xfrm flipH="1">
            <a:off x="1433520" y="4572000"/>
            <a:ext cx="18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7e6e6"/>
                </a:solidFill>
                <a:latin typeface="Roboto"/>
              </a:rPr>
              <a:t>Quality Services</a:t>
            </a:r>
            <a:endParaRPr b="0" lang="en-US" sz="16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84" name="Rectangle 21"/>
          <p:cNvSpPr/>
          <p:nvPr/>
        </p:nvSpPr>
        <p:spPr>
          <a:xfrm>
            <a:off x="1433520" y="4776840"/>
            <a:ext cx="17557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200" spc="-1" strike="noStrike">
                <a:solidFill>
                  <a:srgbClr val="dfdddd"/>
                </a:solidFill>
                <a:latin typeface="Roboto"/>
              </a:rPr>
              <a:t>Insert Text Here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85" name="Rectangle 23"/>
          <p:cNvSpPr/>
          <p:nvPr/>
        </p:nvSpPr>
        <p:spPr>
          <a:xfrm>
            <a:off x="3836880" y="3551400"/>
            <a:ext cx="2227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dfdddd"/>
                </a:solidFill>
                <a:latin typeface="Roboto"/>
              </a:rPr>
              <a:t>Lorem ipsum dolor sit amet conse ctetur adipiscing elit.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86" name="TextBox 25"/>
          <p:cNvSpPr/>
          <p:nvPr/>
        </p:nvSpPr>
        <p:spPr>
          <a:xfrm flipH="1">
            <a:off x="3830040" y="3086280"/>
            <a:ext cx="183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7e6e6"/>
                </a:solidFill>
                <a:latin typeface="Roboto"/>
              </a:rPr>
              <a:t>Quality Services</a:t>
            </a:r>
            <a:endParaRPr b="0" lang="en-US" sz="16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87" name="Rectangle 27"/>
          <p:cNvSpPr/>
          <p:nvPr/>
        </p:nvSpPr>
        <p:spPr>
          <a:xfrm>
            <a:off x="3830760" y="3290760"/>
            <a:ext cx="17571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200" spc="-1" strike="noStrike">
                <a:solidFill>
                  <a:srgbClr val="dfdddd"/>
                </a:solidFill>
                <a:latin typeface="Roboto"/>
              </a:rPr>
              <a:t>Insert Text Here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88" name="Rectangle 29"/>
          <p:cNvSpPr/>
          <p:nvPr/>
        </p:nvSpPr>
        <p:spPr>
          <a:xfrm>
            <a:off x="3836880" y="5037120"/>
            <a:ext cx="2227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dfdddd"/>
                </a:solidFill>
                <a:latin typeface="Roboto"/>
              </a:rPr>
              <a:t>Lorem ipsum dolor sit amet conse ctetur adipiscing elit.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89" name="TextBox 31"/>
          <p:cNvSpPr/>
          <p:nvPr/>
        </p:nvSpPr>
        <p:spPr>
          <a:xfrm flipH="1">
            <a:off x="3830040" y="4572000"/>
            <a:ext cx="183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7e6e6"/>
                </a:solidFill>
                <a:latin typeface="Roboto"/>
              </a:rPr>
              <a:t>Quality Services</a:t>
            </a:r>
            <a:endParaRPr b="0" lang="en-US" sz="16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90" name="Rectangle 33"/>
          <p:cNvSpPr/>
          <p:nvPr/>
        </p:nvSpPr>
        <p:spPr>
          <a:xfrm>
            <a:off x="3830760" y="4776840"/>
            <a:ext cx="17571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200" spc="-1" strike="noStrike">
                <a:solidFill>
                  <a:srgbClr val="dfdddd"/>
                </a:solidFill>
                <a:latin typeface="Roboto"/>
              </a:rPr>
              <a:t>Insert Text Here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91" name="TextBox 35"/>
          <p:cNvSpPr/>
          <p:nvPr/>
        </p:nvSpPr>
        <p:spPr>
          <a:xfrm>
            <a:off x="1433520" y="1446120"/>
            <a:ext cx="385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 Bold"/>
              </a:rPr>
              <a:t>Bring The Quality </a:t>
            </a:r>
            <a:r>
              <a:rPr b="0" lang="en-US" sz="3200" spc="-1" strike="noStrike">
                <a:solidFill>
                  <a:srgbClr val="ec8d0e"/>
                </a:solidFill>
                <a:latin typeface="Cabin Bold"/>
              </a:rPr>
              <a:t>Services Here.</a:t>
            </a:r>
            <a:endParaRPr b="0" lang="en-US" sz="32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3"/>
          <p:cNvGrpSpPr/>
          <p:nvPr/>
        </p:nvGrpSpPr>
        <p:grpSpPr>
          <a:xfrm>
            <a:off x="11133000" y="5727600"/>
            <a:ext cx="465120" cy="465120"/>
            <a:chOff x="11133000" y="5727600"/>
            <a:chExt cx="465120" cy="465120"/>
          </a:xfrm>
        </p:grpSpPr>
        <p:sp>
          <p:nvSpPr>
            <p:cNvPr id="793" name="Freeform: Shape 4"/>
            <p:cNvSpPr/>
            <p:nvPr/>
          </p:nvSpPr>
          <p:spPr>
            <a:xfrm flipH="1">
              <a:off x="11133000" y="5727600"/>
              <a:ext cx="465120" cy="465120"/>
            </a:xfrm>
            <a:custGeom>
              <a:avLst/>
              <a:gdLst/>
              <a:ahLst/>
              <a:rect l="l" t="t" r="r" b="b"/>
              <a:pathLst>
                <a:path w="1692442" h="1692442">
                  <a:moveTo>
                    <a:pt x="0" y="0"/>
                  </a:moveTo>
                  <a:cubicBezTo>
                    <a:pt x="934710" y="0"/>
                    <a:pt x="1692442" y="757732"/>
                    <a:pt x="1692442" y="1692442"/>
                  </a:cubicBezTo>
                  <a:lnTo>
                    <a:pt x="0" y="16924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8d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Roboto"/>
              </a:endParaRPr>
            </a:p>
          </p:txBody>
        </p:sp>
        <p:sp>
          <p:nvSpPr>
            <p:cNvPr id="794" name="Freeform: Shape 5"/>
            <p:cNvSpPr/>
            <p:nvPr/>
          </p:nvSpPr>
          <p:spPr>
            <a:xfrm flipH="1">
              <a:off x="11270520" y="5865480"/>
              <a:ext cx="327240" cy="327240"/>
            </a:xfrm>
            <a:custGeom>
              <a:avLst/>
              <a:gdLst/>
              <a:ahLst/>
              <a:rect l="l" t="t" r="r" b="b"/>
              <a:pathLst>
                <a:path w="1692442" h="1692442">
                  <a:moveTo>
                    <a:pt x="0" y="0"/>
                  </a:moveTo>
                  <a:cubicBezTo>
                    <a:pt x="934710" y="0"/>
                    <a:pt x="1692442" y="757732"/>
                    <a:pt x="1692442" y="1692442"/>
                  </a:cubicBezTo>
                  <a:lnTo>
                    <a:pt x="0" y="16924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82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Roboto"/>
              </a:endParaRPr>
            </a:p>
          </p:txBody>
        </p:sp>
      </p:grpSp>
      <p:sp>
        <p:nvSpPr>
          <p:cNvPr id="795" name="TextBox 6"/>
          <p:cNvSpPr/>
          <p:nvPr/>
        </p:nvSpPr>
        <p:spPr>
          <a:xfrm>
            <a:off x="10225080" y="64440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c6c6"/>
                </a:solidFill>
                <a:latin typeface="Roboto"/>
              </a:rPr>
              <a:t>Happy New Years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96" name="Google Shape;451;p21"/>
          <p:cNvSpPr/>
          <p:nvPr/>
        </p:nvSpPr>
        <p:spPr>
          <a:xfrm>
            <a:off x="7148520" y="3048120"/>
            <a:ext cx="366228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ddd"/>
                </a:solidFill>
                <a:latin typeface="Roboto"/>
                <a:ea typeface="Raleway"/>
              </a:rPr>
              <a:t>Lorem ipsum dolor sit amet, conse lectus ornare, viverra ctetur adipiscing elit. Pellentesque sceleretil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97" name="Google Shape;452;p21"/>
          <p:cNvSpPr/>
          <p:nvPr/>
        </p:nvSpPr>
        <p:spPr>
          <a:xfrm>
            <a:off x="6500880" y="3125880"/>
            <a:ext cx="457200" cy="457200"/>
          </a:xfrm>
          <a:prstGeom prst="ellipse">
            <a:avLst/>
          </a:pr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Roboto"/>
                <a:ea typeface="Raleway"/>
              </a:rPr>
              <a:t>01</a:t>
            </a:r>
            <a:endParaRPr b="0" lang="en-US" sz="9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98" name="Google Shape;453;p21"/>
          <p:cNvSpPr/>
          <p:nvPr/>
        </p:nvSpPr>
        <p:spPr>
          <a:xfrm>
            <a:off x="7148520" y="3967200"/>
            <a:ext cx="366228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ddd"/>
                </a:solidFill>
                <a:latin typeface="Roboto"/>
                <a:ea typeface="Raleway"/>
              </a:rPr>
              <a:t>Lorem ipsum dolor sit amet, conse lectus ornare, viverra ctetur adipiscing elit. Pellentesque sceleretil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99" name="Google Shape;454;p21"/>
          <p:cNvSpPr/>
          <p:nvPr/>
        </p:nvSpPr>
        <p:spPr>
          <a:xfrm>
            <a:off x="6500880" y="4044960"/>
            <a:ext cx="457200" cy="457200"/>
          </a:xfrm>
          <a:prstGeom prst="ellipse">
            <a:avLst/>
          </a:pr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Roboto"/>
                <a:ea typeface="Raleway"/>
              </a:rPr>
              <a:t>02</a:t>
            </a:r>
            <a:endParaRPr b="0" lang="en-US" sz="9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00" name="Google Shape;455;p21"/>
          <p:cNvSpPr/>
          <p:nvPr/>
        </p:nvSpPr>
        <p:spPr>
          <a:xfrm>
            <a:off x="7148520" y="4886280"/>
            <a:ext cx="366228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ddd"/>
                </a:solidFill>
                <a:latin typeface="Roboto"/>
                <a:ea typeface="Raleway"/>
              </a:rPr>
              <a:t>Lorem ipsum dolor sit amet, conse lectus ornare, viverra ctetur adipiscing elit. Pellentesque sceleretil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01" name="Google Shape;456;p21"/>
          <p:cNvSpPr/>
          <p:nvPr/>
        </p:nvSpPr>
        <p:spPr>
          <a:xfrm>
            <a:off x="6500880" y="4964040"/>
            <a:ext cx="457200" cy="457200"/>
          </a:xfrm>
          <a:prstGeom prst="ellipse">
            <a:avLst/>
          </a:pr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Roboto"/>
                <a:ea typeface="Raleway"/>
              </a:rPr>
              <a:t>03</a:t>
            </a:r>
            <a:endParaRPr b="0" lang="en-US" sz="9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02" name="TextBox 20"/>
          <p:cNvSpPr/>
          <p:nvPr/>
        </p:nvSpPr>
        <p:spPr>
          <a:xfrm>
            <a:off x="6415200" y="1541520"/>
            <a:ext cx="3666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 Bold"/>
              </a:rPr>
              <a:t>Thinking More </a:t>
            </a:r>
            <a:r>
              <a:rPr b="0" lang="en-US" sz="3200" spc="-1" strike="noStrike">
                <a:solidFill>
                  <a:srgbClr val="ec8d0e"/>
                </a:solidFill>
                <a:latin typeface="Cabin Bold"/>
              </a:rPr>
              <a:t>Bigger For The Best.</a:t>
            </a:r>
            <a:endParaRPr b="0" lang="en-US" sz="32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3" name="Group 1"/>
          <p:cNvGrpSpPr/>
          <p:nvPr/>
        </p:nvGrpSpPr>
        <p:grpSpPr>
          <a:xfrm>
            <a:off x="11133000" y="5727600"/>
            <a:ext cx="465120" cy="465120"/>
            <a:chOff x="11133000" y="5727600"/>
            <a:chExt cx="465120" cy="465120"/>
          </a:xfrm>
        </p:grpSpPr>
        <p:sp>
          <p:nvSpPr>
            <p:cNvPr id="804" name="Freeform: Shape 2"/>
            <p:cNvSpPr/>
            <p:nvPr/>
          </p:nvSpPr>
          <p:spPr>
            <a:xfrm flipH="1">
              <a:off x="11133000" y="5727600"/>
              <a:ext cx="465120" cy="465120"/>
            </a:xfrm>
            <a:custGeom>
              <a:avLst/>
              <a:gdLst/>
              <a:ahLst/>
              <a:rect l="l" t="t" r="r" b="b"/>
              <a:pathLst>
                <a:path w="1692442" h="1692442">
                  <a:moveTo>
                    <a:pt x="0" y="0"/>
                  </a:moveTo>
                  <a:cubicBezTo>
                    <a:pt x="934710" y="0"/>
                    <a:pt x="1692442" y="757732"/>
                    <a:pt x="1692442" y="1692442"/>
                  </a:cubicBezTo>
                  <a:lnTo>
                    <a:pt x="0" y="16924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8d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Roboto"/>
              </a:endParaRPr>
            </a:p>
          </p:txBody>
        </p:sp>
        <p:sp>
          <p:nvSpPr>
            <p:cNvPr id="805" name="Freeform: Shape 3"/>
            <p:cNvSpPr/>
            <p:nvPr/>
          </p:nvSpPr>
          <p:spPr>
            <a:xfrm flipH="1">
              <a:off x="11270520" y="5865480"/>
              <a:ext cx="327240" cy="327240"/>
            </a:xfrm>
            <a:custGeom>
              <a:avLst/>
              <a:gdLst/>
              <a:ahLst/>
              <a:rect l="l" t="t" r="r" b="b"/>
              <a:pathLst>
                <a:path w="1692442" h="1692442">
                  <a:moveTo>
                    <a:pt x="0" y="0"/>
                  </a:moveTo>
                  <a:cubicBezTo>
                    <a:pt x="934710" y="0"/>
                    <a:pt x="1692442" y="757732"/>
                    <a:pt x="1692442" y="1692442"/>
                  </a:cubicBezTo>
                  <a:lnTo>
                    <a:pt x="0" y="16924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82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Roboto"/>
              </a:endParaRPr>
            </a:p>
          </p:txBody>
        </p:sp>
      </p:grpSp>
      <p:sp>
        <p:nvSpPr>
          <p:cNvPr id="806" name="Oval 4"/>
          <p:cNvSpPr/>
          <p:nvPr/>
        </p:nvSpPr>
        <p:spPr>
          <a:xfrm>
            <a:off x="609480" y="673200"/>
            <a:ext cx="123840" cy="123840"/>
          </a:xfrm>
          <a:prstGeom prst="ellipse">
            <a:avLst/>
          </a:pr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07" name="Oval 5"/>
          <p:cNvSpPr/>
          <p:nvPr/>
        </p:nvSpPr>
        <p:spPr>
          <a:xfrm>
            <a:off x="866880" y="673200"/>
            <a:ext cx="122040" cy="123840"/>
          </a:xfrm>
          <a:prstGeom prst="ellipse">
            <a:avLst/>
          </a:pr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08" name="Oval 6"/>
          <p:cNvSpPr/>
          <p:nvPr/>
        </p:nvSpPr>
        <p:spPr>
          <a:xfrm>
            <a:off x="1122480" y="673200"/>
            <a:ext cx="123840" cy="123840"/>
          </a:xfrm>
          <a:prstGeom prst="ellipse">
            <a:avLst/>
          </a:pr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09" name="Oval 7"/>
          <p:cNvSpPr/>
          <p:nvPr/>
        </p:nvSpPr>
        <p:spPr>
          <a:xfrm>
            <a:off x="866880" y="934920"/>
            <a:ext cx="122040" cy="123840"/>
          </a:xfrm>
          <a:prstGeom prst="ellipse">
            <a:avLst/>
          </a:pr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10" name="TextBox 8"/>
          <p:cNvSpPr/>
          <p:nvPr/>
        </p:nvSpPr>
        <p:spPr>
          <a:xfrm>
            <a:off x="528480" y="6024600"/>
            <a:ext cx="1646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9c6c6"/>
                </a:solidFill>
                <a:latin typeface="Roboto"/>
              </a:rPr>
              <a:t>The Firework Celebration</a:t>
            </a:r>
            <a:endParaRPr b="0" lang="en-US" sz="9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11" name="TextBox 9"/>
          <p:cNvSpPr/>
          <p:nvPr/>
        </p:nvSpPr>
        <p:spPr>
          <a:xfrm>
            <a:off x="10225080" y="64440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c6c6"/>
                </a:solidFill>
                <a:latin typeface="Roboto"/>
              </a:rPr>
              <a:t>Happy New Years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12" name="Freeform: Shape 11"/>
          <p:cNvSpPr/>
          <p:nvPr/>
        </p:nvSpPr>
        <p:spPr>
          <a:xfrm>
            <a:off x="2084400" y="2093760"/>
            <a:ext cx="2484360" cy="3508560"/>
          </a:xfrm>
          <a:custGeom>
            <a:avLst/>
            <a:gdLst/>
            <a:ahLst/>
            <a:rect l="l" t="t" r="r" b="b"/>
            <a:pathLst>
              <a:path w="3105150" h="4381741">
                <a:moveTo>
                  <a:pt x="0" y="0"/>
                </a:moveTo>
                <a:lnTo>
                  <a:pt x="3105150" y="0"/>
                </a:lnTo>
                <a:lnTo>
                  <a:pt x="3105150" y="760460"/>
                </a:lnTo>
                <a:lnTo>
                  <a:pt x="3105150" y="769441"/>
                </a:lnTo>
                <a:lnTo>
                  <a:pt x="3105150" y="4381741"/>
                </a:lnTo>
                <a:lnTo>
                  <a:pt x="0" y="4381741"/>
                </a:lnTo>
                <a:lnTo>
                  <a:pt x="0" y="769441"/>
                </a:lnTo>
                <a:lnTo>
                  <a:pt x="0" y="760460"/>
                </a:lnTo>
                <a:lnTo>
                  <a:pt x="0" y="0"/>
                </a:lnTo>
                <a:close/>
              </a:path>
            </a:pathLst>
          </a:custGeom>
          <a:solidFill>
            <a:srgbClr val="ec8d0e"/>
          </a:solidFill>
          <a:ln w="0">
            <a:noFill/>
          </a:ln>
          <a:effectLst>
            <a:outerShdw dist="15375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13" name="TextBox 12"/>
          <p:cNvSpPr/>
          <p:nvPr/>
        </p:nvSpPr>
        <p:spPr>
          <a:xfrm>
            <a:off x="2182680" y="2938320"/>
            <a:ext cx="228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bin Bold"/>
                <a:ea typeface="Open Sans"/>
              </a:rPr>
              <a:t>Package One</a:t>
            </a:r>
            <a:endParaRPr b="0" lang="en-US" sz="16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14" name="TextBox 13"/>
          <p:cNvSpPr/>
          <p:nvPr/>
        </p:nvSpPr>
        <p:spPr>
          <a:xfrm>
            <a:off x="2751840" y="3316320"/>
            <a:ext cx="114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ffffff"/>
                </a:solidFill>
                <a:latin typeface="Roboto"/>
              </a:rPr>
              <a:t>$</a:t>
            </a:r>
            <a:r>
              <a:rPr b="1" lang="en-US" sz="5400" spc="-1" strike="noStrike">
                <a:solidFill>
                  <a:srgbClr val="ffffff"/>
                </a:solidFill>
                <a:latin typeface="Roboto"/>
              </a:rPr>
              <a:t>2</a:t>
            </a:r>
            <a:r>
              <a:rPr b="1" lang="id-ID" sz="5400" spc="-1" strike="noStrike">
                <a:solidFill>
                  <a:srgbClr val="ffffff"/>
                </a:solidFill>
                <a:latin typeface="Roboto"/>
              </a:rPr>
              <a:t>0</a:t>
            </a:r>
            <a:endParaRPr b="0" lang="en-US" sz="5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15" name="TextBox 14"/>
          <p:cNvSpPr/>
          <p:nvPr/>
        </p:nvSpPr>
        <p:spPr>
          <a:xfrm>
            <a:off x="2182680" y="4334040"/>
            <a:ext cx="22878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Roboto"/>
                <a:ea typeface="Open Sans"/>
              </a:rPr>
              <a:t>Lorem ipsum dolor sit amet, conse lectus ornare, viverra ctetur</a:t>
            </a:r>
            <a:endParaRPr b="0" lang="en-US" sz="10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16" name="Rectangle 15"/>
          <p:cNvSpPr/>
          <p:nvPr/>
        </p:nvSpPr>
        <p:spPr>
          <a:xfrm>
            <a:off x="2887560" y="5064120"/>
            <a:ext cx="878040" cy="274680"/>
          </a:xfrm>
          <a:prstGeom prst="rect">
            <a:avLst/>
          </a:prstGeom>
          <a:solidFill>
            <a:srgbClr val="0a05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Roboto"/>
              </a:rPr>
              <a:t>See More</a:t>
            </a:r>
            <a:endParaRPr b="0" lang="en-US" sz="10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17" name="Line 7"/>
          <p:cNvSpPr/>
          <p:nvPr/>
        </p:nvSpPr>
        <p:spPr>
          <a:xfrm>
            <a:off x="2084400" y="2711520"/>
            <a:ext cx="2484360" cy="0"/>
          </a:xfrm>
          <a:prstGeom prst="line">
            <a:avLst/>
          </a:prstGeom>
          <a:ln w="28440">
            <a:solidFill>
              <a:srgbClr val="f2f2f2">
                <a:alpha val="25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18" name="Star: 5 Points 17"/>
          <p:cNvSpPr/>
          <p:nvPr/>
        </p:nvSpPr>
        <p:spPr>
          <a:xfrm>
            <a:off x="2932200" y="2333520"/>
            <a:ext cx="168120" cy="168480"/>
          </a:xfrm>
          <a:custGeom>
            <a:avLst/>
            <a:gdLst/>
            <a:ahLst/>
            <a:rect l="l" t="t" r="r" b="b"/>
            <a:pathLst>
              <a:path w="167737" h="167737">
                <a:moveTo>
                  <a:pt x="0" y="64070"/>
                </a:moveTo>
                <a:lnTo>
                  <a:pt x="64070" y="64070"/>
                </a:lnTo>
                <a:lnTo>
                  <a:pt x="83869" y="0"/>
                </a:lnTo>
                <a:lnTo>
                  <a:pt x="103667" y="64070"/>
                </a:lnTo>
                <a:lnTo>
                  <a:pt x="167737" y="64070"/>
                </a:lnTo>
                <a:lnTo>
                  <a:pt x="115903" y="103667"/>
                </a:lnTo>
                <a:lnTo>
                  <a:pt x="135702" y="167737"/>
                </a:lnTo>
                <a:lnTo>
                  <a:pt x="83869" y="128139"/>
                </a:lnTo>
                <a:lnTo>
                  <a:pt x="32035" y="167737"/>
                </a:lnTo>
                <a:lnTo>
                  <a:pt x="51834" y="103667"/>
                </a:lnTo>
                <a:lnTo>
                  <a:pt x="0" y="6407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19" name="Star: 5 Points 18"/>
          <p:cNvSpPr/>
          <p:nvPr/>
        </p:nvSpPr>
        <p:spPr>
          <a:xfrm>
            <a:off x="3243240" y="2333520"/>
            <a:ext cx="166680" cy="168480"/>
          </a:xfrm>
          <a:custGeom>
            <a:avLst/>
            <a:gdLst/>
            <a:ahLst/>
            <a:rect l="l" t="t" r="r" b="b"/>
            <a:pathLst>
              <a:path w="167737" h="167737">
                <a:moveTo>
                  <a:pt x="0" y="64070"/>
                </a:moveTo>
                <a:lnTo>
                  <a:pt x="64070" y="64070"/>
                </a:lnTo>
                <a:lnTo>
                  <a:pt x="83869" y="0"/>
                </a:lnTo>
                <a:lnTo>
                  <a:pt x="103667" y="64070"/>
                </a:lnTo>
                <a:lnTo>
                  <a:pt x="167737" y="64070"/>
                </a:lnTo>
                <a:lnTo>
                  <a:pt x="115903" y="103667"/>
                </a:lnTo>
                <a:lnTo>
                  <a:pt x="135702" y="167737"/>
                </a:lnTo>
                <a:lnTo>
                  <a:pt x="83869" y="128139"/>
                </a:lnTo>
                <a:lnTo>
                  <a:pt x="32035" y="167737"/>
                </a:lnTo>
                <a:lnTo>
                  <a:pt x="51834" y="103667"/>
                </a:lnTo>
                <a:lnTo>
                  <a:pt x="0" y="6407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20" name="Star: 5 Points 19"/>
          <p:cNvSpPr/>
          <p:nvPr/>
        </p:nvSpPr>
        <p:spPr>
          <a:xfrm>
            <a:off x="3552840" y="2333520"/>
            <a:ext cx="168120" cy="168480"/>
          </a:xfrm>
          <a:custGeom>
            <a:avLst/>
            <a:gdLst/>
            <a:ahLst/>
            <a:rect l="l" t="t" r="r" b="b"/>
            <a:pathLst>
              <a:path w="167737" h="167737">
                <a:moveTo>
                  <a:pt x="0" y="64070"/>
                </a:moveTo>
                <a:lnTo>
                  <a:pt x="64070" y="64070"/>
                </a:lnTo>
                <a:lnTo>
                  <a:pt x="83869" y="0"/>
                </a:lnTo>
                <a:lnTo>
                  <a:pt x="103667" y="64070"/>
                </a:lnTo>
                <a:lnTo>
                  <a:pt x="167737" y="64070"/>
                </a:lnTo>
                <a:lnTo>
                  <a:pt x="115903" y="103667"/>
                </a:lnTo>
                <a:lnTo>
                  <a:pt x="135702" y="167737"/>
                </a:lnTo>
                <a:lnTo>
                  <a:pt x="83869" y="128139"/>
                </a:lnTo>
                <a:lnTo>
                  <a:pt x="32035" y="167737"/>
                </a:lnTo>
                <a:lnTo>
                  <a:pt x="51834" y="103667"/>
                </a:lnTo>
                <a:lnTo>
                  <a:pt x="0" y="6407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21" name="Freeform: Shape 21"/>
          <p:cNvSpPr/>
          <p:nvPr/>
        </p:nvSpPr>
        <p:spPr>
          <a:xfrm>
            <a:off x="4853160" y="2093760"/>
            <a:ext cx="2485800" cy="3508560"/>
          </a:xfrm>
          <a:custGeom>
            <a:avLst/>
            <a:gdLst/>
            <a:ahLst/>
            <a:rect l="l" t="t" r="r" b="b"/>
            <a:pathLst>
              <a:path w="3105150" h="4381741">
                <a:moveTo>
                  <a:pt x="0" y="0"/>
                </a:moveTo>
                <a:lnTo>
                  <a:pt x="3105150" y="0"/>
                </a:lnTo>
                <a:lnTo>
                  <a:pt x="3105150" y="760460"/>
                </a:lnTo>
                <a:lnTo>
                  <a:pt x="3105150" y="769441"/>
                </a:lnTo>
                <a:lnTo>
                  <a:pt x="3105150" y="4381741"/>
                </a:lnTo>
                <a:lnTo>
                  <a:pt x="0" y="4381741"/>
                </a:lnTo>
                <a:lnTo>
                  <a:pt x="0" y="769441"/>
                </a:lnTo>
                <a:lnTo>
                  <a:pt x="0" y="760460"/>
                </a:lnTo>
                <a:lnTo>
                  <a:pt x="0" y="0"/>
                </a:lnTo>
                <a:close/>
              </a:path>
            </a:pathLst>
          </a:custGeom>
          <a:solidFill>
            <a:srgbClr val="ec8d0e"/>
          </a:solidFill>
          <a:ln w="0">
            <a:noFill/>
          </a:ln>
          <a:effectLst>
            <a:outerShdw dist="15375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22" name="TextBox 22"/>
          <p:cNvSpPr/>
          <p:nvPr/>
        </p:nvSpPr>
        <p:spPr>
          <a:xfrm>
            <a:off x="4952880" y="293832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bin Bold"/>
                <a:ea typeface="Open Sans"/>
              </a:rPr>
              <a:t>Package Two</a:t>
            </a:r>
            <a:endParaRPr b="0" lang="en-US" sz="16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23" name="TextBox 23"/>
          <p:cNvSpPr/>
          <p:nvPr/>
        </p:nvSpPr>
        <p:spPr>
          <a:xfrm>
            <a:off x="5521320" y="3316320"/>
            <a:ext cx="114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ffffff"/>
                </a:solidFill>
                <a:latin typeface="Roboto"/>
              </a:rPr>
              <a:t>$</a:t>
            </a:r>
            <a:r>
              <a:rPr b="1" lang="id-ID" sz="5400" spc="-1" strike="noStrike">
                <a:solidFill>
                  <a:srgbClr val="ffffff"/>
                </a:solidFill>
                <a:latin typeface="Roboto"/>
              </a:rPr>
              <a:t>40</a:t>
            </a:r>
            <a:endParaRPr b="0" lang="en-US" sz="5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24" name="TextBox 24"/>
          <p:cNvSpPr/>
          <p:nvPr/>
        </p:nvSpPr>
        <p:spPr>
          <a:xfrm>
            <a:off x="4952880" y="4334040"/>
            <a:ext cx="2286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Roboto"/>
                <a:ea typeface="Open Sans"/>
              </a:rPr>
              <a:t>Lorem ipsum dolor sit amet, conse lectus ornare, viverra ctetur</a:t>
            </a:r>
            <a:endParaRPr b="0" lang="en-US" sz="10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25" name="Rectangle 25"/>
          <p:cNvSpPr/>
          <p:nvPr/>
        </p:nvSpPr>
        <p:spPr>
          <a:xfrm>
            <a:off x="5656320" y="5064120"/>
            <a:ext cx="879480" cy="274680"/>
          </a:xfrm>
          <a:prstGeom prst="rect">
            <a:avLst/>
          </a:prstGeom>
          <a:solidFill>
            <a:srgbClr val="0a05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Roboto"/>
              </a:rPr>
              <a:t>See More</a:t>
            </a:r>
            <a:endParaRPr b="0" lang="en-US" sz="10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26" name="Line 7"/>
          <p:cNvSpPr/>
          <p:nvPr/>
        </p:nvSpPr>
        <p:spPr>
          <a:xfrm>
            <a:off x="4853160" y="2711520"/>
            <a:ext cx="2485800" cy="0"/>
          </a:xfrm>
          <a:prstGeom prst="line">
            <a:avLst/>
          </a:prstGeom>
          <a:ln w="28440">
            <a:solidFill>
              <a:srgbClr val="f2f2f2">
                <a:alpha val="25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27" name="Star: 5 Points 28"/>
          <p:cNvSpPr/>
          <p:nvPr/>
        </p:nvSpPr>
        <p:spPr>
          <a:xfrm>
            <a:off x="5702400" y="2333520"/>
            <a:ext cx="166680" cy="168480"/>
          </a:xfrm>
          <a:custGeom>
            <a:avLst/>
            <a:gdLst/>
            <a:ahLst/>
            <a:rect l="l" t="t" r="r" b="b"/>
            <a:pathLst>
              <a:path w="167738" h="167737">
                <a:moveTo>
                  <a:pt x="0" y="64070"/>
                </a:moveTo>
                <a:lnTo>
                  <a:pt x="64071" y="64070"/>
                </a:lnTo>
                <a:lnTo>
                  <a:pt x="83869" y="0"/>
                </a:lnTo>
                <a:lnTo>
                  <a:pt x="103667" y="64070"/>
                </a:lnTo>
                <a:lnTo>
                  <a:pt x="167738" y="64070"/>
                </a:lnTo>
                <a:lnTo>
                  <a:pt x="115904" y="103667"/>
                </a:lnTo>
                <a:lnTo>
                  <a:pt x="135703" y="167737"/>
                </a:lnTo>
                <a:lnTo>
                  <a:pt x="83869" y="128139"/>
                </a:lnTo>
                <a:lnTo>
                  <a:pt x="32035" y="167737"/>
                </a:lnTo>
                <a:lnTo>
                  <a:pt x="51834" y="103667"/>
                </a:lnTo>
                <a:lnTo>
                  <a:pt x="0" y="6407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28" name="Star: 5 Points 29"/>
          <p:cNvSpPr/>
          <p:nvPr/>
        </p:nvSpPr>
        <p:spPr>
          <a:xfrm>
            <a:off x="6012000" y="2333520"/>
            <a:ext cx="168120" cy="168480"/>
          </a:xfrm>
          <a:custGeom>
            <a:avLst/>
            <a:gdLst/>
            <a:ahLst/>
            <a:rect l="l" t="t" r="r" b="b"/>
            <a:pathLst>
              <a:path w="167738" h="167737">
                <a:moveTo>
                  <a:pt x="0" y="64070"/>
                </a:moveTo>
                <a:lnTo>
                  <a:pt x="64071" y="64070"/>
                </a:lnTo>
                <a:lnTo>
                  <a:pt x="83869" y="0"/>
                </a:lnTo>
                <a:lnTo>
                  <a:pt x="103667" y="64070"/>
                </a:lnTo>
                <a:lnTo>
                  <a:pt x="167738" y="64070"/>
                </a:lnTo>
                <a:lnTo>
                  <a:pt x="115904" y="103667"/>
                </a:lnTo>
                <a:lnTo>
                  <a:pt x="135703" y="167737"/>
                </a:lnTo>
                <a:lnTo>
                  <a:pt x="83869" y="128139"/>
                </a:lnTo>
                <a:lnTo>
                  <a:pt x="32035" y="167737"/>
                </a:lnTo>
                <a:lnTo>
                  <a:pt x="51834" y="103667"/>
                </a:lnTo>
                <a:lnTo>
                  <a:pt x="0" y="6407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29" name="Star: 5 Points 30"/>
          <p:cNvSpPr/>
          <p:nvPr/>
        </p:nvSpPr>
        <p:spPr>
          <a:xfrm>
            <a:off x="6323040" y="2333520"/>
            <a:ext cx="166680" cy="168480"/>
          </a:xfrm>
          <a:custGeom>
            <a:avLst/>
            <a:gdLst/>
            <a:ahLst/>
            <a:rect l="l" t="t" r="r" b="b"/>
            <a:pathLst>
              <a:path w="167738" h="167737">
                <a:moveTo>
                  <a:pt x="0" y="64070"/>
                </a:moveTo>
                <a:lnTo>
                  <a:pt x="64071" y="64070"/>
                </a:lnTo>
                <a:lnTo>
                  <a:pt x="83869" y="0"/>
                </a:lnTo>
                <a:lnTo>
                  <a:pt x="103667" y="64070"/>
                </a:lnTo>
                <a:lnTo>
                  <a:pt x="167738" y="64070"/>
                </a:lnTo>
                <a:lnTo>
                  <a:pt x="115904" y="103667"/>
                </a:lnTo>
                <a:lnTo>
                  <a:pt x="135703" y="167737"/>
                </a:lnTo>
                <a:lnTo>
                  <a:pt x="83869" y="128139"/>
                </a:lnTo>
                <a:lnTo>
                  <a:pt x="32035" y="167737"/>
                </a:lnTo>
                <a:lnTo>
                  <a:pt x="51834" y="103667"/>
                </a:lnTo>
                <a:lnTo>
                  <a:pt x="0" y="6407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30" name="Freeform: Shape 33"/>
          <p:cNvSpPr/>
          <p:nvPr/>
        </p:nvSpPr>
        <p:spPr>
          <a:xfrm>
            <a:off x="7623000" y="2093760"/>
            <a:ext cx="2484720" cy="3508560"/>
          </a:xfrm>
          <a:custGeom>
            <a:avLst/>
            <a:gdLst/>
            <a:ahLst/>
            <a:rect l="l" t="t" r="r" b="b"/>
            <a:pathLst>
              <a:path w="3105150" h="4381741">
                <a:moveTo>
                  <a:pt x="0" y="0"/>
                </a:moveTo>
                <a:lnTo>
                  <a:pt x="3105150" y="0"/>
                </a:lnTo>
                <a:lnTo>
                  <a:pt x="3105150" y="760460"/>
                </a:lnTo>
                <a:lnTo>
                  <a:pt x="3105150" y="769441"/>
                </a:lnTo>
                <a:lnTo>
                  <a:pt x="3105150" y="4381741"/>
                </a:lnTo>
                <a:lnTo>
                  <a:pt x="0" y="4381741"/>
                </a:lnTo>
                <a:lnTo>
                  <a:pt x="0" y="769441"/>
                </a:lnTo>
                <a:lnTo>
                  <a:pt x="0" y="760460"/>
                </a:lnTo>
                <a:lnTo>
                  <a:pt x="0" y="0"/>
                </a:lnTo>
                <a:close/>
              </a:path>
            </a:pathLst>
          </a:custGeom>
          <a:solidFill>
            <a:srgbClr val="ec8d0e"/>
          </a:solidFill>
          <a:ln w="0">
            <a:noFill/>
          </a:ln>
          <a:effectLst>
            <a:outerShdw dist="15375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31" name="TextBox 34"/>
          <p:cNvSpPr/>
          <p:nvPr/>
        </p:nvSpPr>
        <p:spPr>
          <a:xfrm>
            <a:off x="7721640" y="2938320"/>
            <a:ext cx="22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bin Bold"/>
                <a:ea typeface="Open Sans"/>
              </a:rPr>
              <a:t>Package Three</a:t>
            </a:r>
            <a:endParaRPr b="0" lang="en-US" sz="16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32" name="TextBox 35"/>
          <p:cNvSpPr/>
          <p:nvPr/>
        </p:nvSpPr>
        <p:spPr>
          <a:xfrm>
            <a:off x="8290440" y="3316320"/>
            <a:ext cx="114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ffffff"/>
                </a:solidFill>
                <a:latin typeface="Roboto"/>
              </a:rPr>
              <a:t>$</a:t>
            </a:r>
            <a:r>
              <a:rPr b="1" lang="id-ID" sz="5400" spc="-1" strike="noStrike">
                <a:solidFill>
                  <a:srgbClr val="ffffff"/>
                </a:solidFill>
                <a:latin typeface="Roboto"/>
              </a:rPr>
              <a:t>60</a:t>
            </a:r>
            <a:endParaRPr b="0" lang="en-US" sz="5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33" name="TextBox 36"/>
          <p:cNvSpPr/>
          <p:nvPr/>
        </p:nvSpPr>
        <p:spPr>
          <a:xfrm>
            <a:off x="7721640" y="4334040"/>
            <a:ext cx="22874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Roboto"/>
                <a:ea typeface="Open Sans"/>
              </a:rPr>
              <a:t>Lorem ipsum dolor sit amet, conse lectus ornare, viverra ctetur</a:t>
            </a:r>
            <a:endParaRPr b="0" lang="en-US" sz="10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34" name="Rectangle 37"/>
          <p:cNvSpPr/>
          <p:nvPr/>
        </p:nvSpPr>
        <p:spPr>
          <a:xfrm>
            <a:off x="8426520" y="5064120"/>
            <a:ext cx="877680" cy="274680"/>
          </a:xfrm>
          <a:prstGeom prst="rect">
            <a:avLst/>
          </a:prstGeom>
          <a:solidFill>
            <a:srgbClr val="0a05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Roboto"/>
              </a:rPr>
              <a:t>See More</a:t>
            </a:r>
            <a:endParaRPr b="0" lang="en-US" sz="10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35" name="Line 7"/>
          <p:cNvSpPr/>
          <p:nvPr/>
        </p:nvSpPr>
        <p:spPr>
          <a:xfrm>
            <a:off x="7623000" y="2711520"/>
            <a:ext cx="2484720" cy="0"/>
          </a:xfrm>
          <a:prstGeom prst="line">
            <a:avLst/>
          </a:prstGeom>
          <a:ln w="28440">
            <a:solidFill>
              <a:srgbClr val="f2f2f2">
                <a:alpha val="25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36" name="Star: 5 Points 40"/>
          <p:cNvSpPr/>
          <p:nvPr/>
        </p:nvSpPr>
        <p:spPr>
          <a:xfrm>
            <a:off x="8470800" y="2333520"/>
            <a:ext cx="168480" cy="168480"/>
          </a:xfrm>
          <a:custGeom>
            <a:avLst/>
            <a:gdLst/>
            <a:ahLst/>
            <a:rect l="l" t="t" r="r" b="b"/>
            <a:pathLst>
              <a:path w="167738" h="167737">
                <a:moveTo>
                  <a:pt x="0" y="64070"/>
                </a:moveTo>
                <a:lnTo>
                  <a:pt x="64071" y="64070"/>
                </a:lnTo>
                <a:lnTo>
                  <a:pt x="83869" y="0"/>
                </a:lnTo>
                <a:lnTo>
                  <a:pt x="103667" y="64070"/>
                </a:lnTo>
                <a:lnTo>
                  <a:pt x="167738" y="64070"/>
                </a:lnTo>
                <a:lnTo>
                  <a:pt x="115904" y="103667"/>
                </a:lnTo>
                <a:lnTo>
                  <a:pt x="135703" y="167737"/>
                </a:lnTo>
                <a:lnTo>
                  <a:pt x="83869" y="128139"/>
                </a:lnTo>
                <a:lnTo>
                  <a:pt x="32035" y="167737"/>
                </a:lnTo>
                <a:lnTo>
                  <a:pt x="51834" y="103667"/>
                </a:lnTo>
                <a:lnTo>
                  <a:pt x="0" y="6407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37" name="Star: 5 Points 41"/>
          <p:cNvSpPr/>
          <p:nvPr/>
        </p:nvSpPr>
        <p:spPr>
          <a:xfrm>
            <a:off x="8782200" y="2333520"/>
            <a:ext cx="166680" cy="168480"/>
          </a:xfrm>
          <a:custGeom>
            <a:avLst/>
            <a:gdLst/>
            <a:ahLst/>
            <a:rect l="l" t="t" r="r" b="b"/>
            <a:pathLst>
              <a:path w="167738" h="167737">
                <a:moveTo>
                  <a:pt x="0" y="64070"/>
                </a:moveTo>
                <a:lnTo>
                  <a:pt x="64071" y="64070"/>
                </a:lnTo>
                <a:lnTo>
                  <a:pt x="83869" y="0"/>
                </a:lnTo>
                <a:lnTo>
                  <a:pt x="103667" y="64070"/>
                </a:lnTo>
                <a:lnTo>
                  <a:pt x="167738" y="64070"/>
                </a:lnTo>
                <a:lnTo>
                  <a:pt x="115904" y="103667"/>
                </a:lnTo>
                <a:lnTo>
                  <a:pt x="135703" y="167737"/>
                </a:lnTo>
                <a:lnTo>
                  <a:pt x="83869" y="128139"/>
                </a:lnTo>
                <a:lnTo>
                  <a:pt x="32035" y="167737"/>
                </a:lnTo>
                <a:lnTo>
                  <a:pt x="51834" y="103667"/>
                </a:lnTo>
                <a:lnTo>
                  <a:pt x="0" y="6407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38" name="Star: 5 Points 42"/>
          <p:cNvSpPr/>
          <p:nvPr/>
        </p:nvSpPr>
        <p:spPr>
          <a:xfrm>
            <a:off x="9091440" y="2333520"/>
            <a:ext cx="168480" cy="168480"/>
          </a:xfrm>
          <a:custGeom>
            <a:avLst/>
            <a:gdLst/>
            <a:ahLst/>
            <a:rect l="l" t="t" r="r" b="b"/>
            <a:pathLst>
              <a:path w="167738" h="167737">
                <a:moveTo>
                  <a:pt x="0" y="64070"/>
                </a:moveTo>
                <a:lnTo>
                  <a:pt x="64071" y="64070"/>
                </a:lnTo>
                <a:lnTo>
                  <a:pt x="83869" y="0"/>
                </a:lnTo>
                <a:lnTo>
                  <a:pt x="103667" y="64070"/>
                </a:lnTo>
                <a:lnTo>
                  <a:pt x="167738" y="64070"/>
                </a:lnTo>
                <a:lnTo>
                  <a:pt x="115904" y="103667"/>
                </a:lnTo>
                <a:lnTo>
                  <a:pt x="135703" y="167737"/>
                </a:lnTo>
                <a:lnTo>
                  <a:pt x="83869" y="128139"/>
                </a:lnTo>
                <a:lnTo>
                  <a:pt x="32035" y="167737"/>
                </a:lnTo>
                <a:lnTo>
                  <a:pt x="51834" y="103667"/>
                </a:lnTo>
                <a:lnTo>
                  <a:pt x="0" y="6407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39" name="TextBox 47"/>
          <p:cNvSpPr/>
          <p:nvPr/>
        </p:nvSpPr>
        <p:spPr>
          <a:xfrm>
            <a:off x="4165560" y="925560"/>
            <a:ext cx="386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 Bold"/>
              </a:rPr>
              <a:t>Pricing </a:t>
            </a:r>
            <a:r>
              <a:rPr b="0" lang="en-US" sz="3200" spc="-1" strike="noStrike">
                <a:solidFill>
                  <a:srgbClr val="ec8d0e"/>
                </a:solidFill>
                <a:latin typeface="Cabin Bold"/>
              </a:rPr>
              <a:t>Tables.</a:t>
            </a:r>
            <a:endParaRPr b="0" lang="en-US" sz="32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9"/>
          <p:cNvGrpSpPr/>
          <p:nvPr/>
        </p:nvGrpSpPr>
        <p:grpSpPr>
          <a:xfrm>
            <a:off x="11133000" y="5727600"/>
            <a:ext cx="465120" cy="465120"/>
            <a:chOff x="11133000" y="5727600"/>
            <a:chExt cx="465120" cy="465120"/>
          </a:xfrm>
        </p:grpSpPr>
        <p:sp>
          <p:nvSpPr>
            <p:cNvPr id="841" name="Freeform: Shape 11"/>
            <p:cNvSpPr/>
            <p:nvPr/>
          </p:nvSpPr>
          <p:spPr>
            <a:xfrm flipH="1">
              <a:off x="11133000" y="5727600"/>
              <a:ext cx="465120" cy="465120"/>
            </a:xfrm>
            <a:custGeom>
              <a:avLst/>
              <a:gdLst/>
              <a:ahLst/>
              <a:rect l="l" t="t" r="r" b="b"/>
              <a:pathLst>
                <a:path w="1692442" h="1692442">
                  <a:moveTo>
                    <a:pt x="0" y="0"/>
                  </a:moveTo>
                  <a:cubicBezTo>
                    <a:pt x="934710" y="0"/>
                    <a:pt x="1692442" y="757732"/>
                    <a:pt x="1692442" y="1692442"/>
                  </a:cubicBezTo>
                  <a:lnTo>
                    <a:pt x="0" y="16924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8d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Roboto"/>
              </a:endParaRPr>
            </a:p>
          </p:txBody>
        </p:sp>
        <p:sp>
          <p:nvSpPr>
            <p:cNvPr id="842" name="Freeform: Shape 12"/>
            <p:cNvSpPr/>
            <p:nvPr/>
          </p:nvSpPr>
          <p:spPr>
            <a:xfrm flipH="1">
              <a:off x="11270520" y="5865480"/>
              <a:ext cx="327240" cy="327240"/>
            </a:xfrm>
            <a:custGeom>
              <a:avLst/>
              <a:gdLst/>
              <a:ahLst/>
              <a:rect l="l" t="t" r="r" b="b"/>
              <a:pathLst>
                <a:path w="1692442" h="1692442">
                  <a:moveTo>
                    <a:pt x="0" y="0"/>
                  </a:moveTo>
                  <a:cubicBezTo>
                    <a:pt x="934710" y="0"/>
                    <a:pt x="1692442" y="757732"/>
                    <a:pt x="1692442" y="1692442"/>
                  </a:cubicBezTo>
                  <a:lnTo>
                    <a:pt x="0" y="16924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82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Roboto"/>
              </a:endParaRPr>
            </a:p>
          </p:txBody>
        </p:sp>
      </p:grpSp>
      <p:sp>
        <p:nvSpPr>
          <p:cNvPr id="843" name="TextBox 13"/>
          <p:cNvSpPr/>
          <p:nvPr/>
        </p:nvSpPr>
        <p:spPr>
          <a:xfrm>
            <a:off x="10225080" y="64440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c6c6"/>
                </a:solidFill>
                <a:latin typeface="Roboto"/>
              </a:rPr>
              <a:t>Happy New Years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44" name="Rectangle 1"/>
          <p:cNvSpPr/>
          <p:nvPr/>
        </p:nvSpPr>
        <p:spPr>
          <a:xfrm>
            <a:off x="5983200" y="3684600"/>
            <a:ext cx="21416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dfdddd"/>
                </a:solidFill>
                <a:latin typeface="Roboto"/>
              </a:rPr>
              <a:t>Lorem ipsum dolor sit ameti sectetur adipiscing elitil koal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45" name="Rectangle 2"/>
          <p:cNvSpPr/>
          <p:nvPr/>
        </p:nvSpPr>
        <p:spPr>
          <a:xfrm>
            <a:off x="5983200" y="3090960"/>
            <a:ext cx="180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7e6e6"/>
                </a:solidFill>
                <a:latin typeface="Roboto"/>
              </a:rPr>
              <a:t>Takoyama Best</a:t>
            </a:r>
            <a:endParaRPr b="0" lang="en-US" sz="16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46" name="Rectangle 3"/>
          <p:cNvSpPr/>
          <p:nvPr/>
        </p:nvSpPr>
        <p:spPr>
          <a:xfrm>
            <a:off x="5983200" y="3392640"/>
            <a:ext cx="214164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dfdddd"/>
                </a:solidFill>
                <a:latin typeface="Roboto"/>
              </a:rPr>
              <a:t>The Firework’s Team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47" name="Rectangle 4"/>
          <p:cNvSpPr/>
          <p:nvPr/>
        </p:nvSpPr>
        <p:spPr>
          <a:xfrm>
            <a:off x="8709120" y="3713040"/>
            <a:ext cx="21412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dfdddd"/>
                </a:solidFill>
                <a:latin typeface="Roboto"/>
              </a:rPr>
              <a:t>Lorem ipsum dolor sit ameti sectetur adipiscing elitil koal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48" name="Rectangle 5"/>
          <p:cNvSpPr/>
          <p:nvPr/>
        </p:nvSpPr>
        <p:spPr>
          <a:xfrm>
            <a:off x="8709120" y="3119400"/>
            <a:ext cx="180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7e6e6"/>
                </a:solidFill>
                <a:latin typeface="Roboto"/>
              </a:rPr>
              <a:t>Honoka Best</a:t>
            </a:r>
            <a:endParaRPr b="0" lang="en-US" sz="16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49" name="Rectangle 6"/>
          <p:cNvSpPr/>
          <p:nvPr/>
        </p:nvSpPr>
        <p:spPr>
          <a:xfrm>
            <a:off x="8709120" y="3419640"/>
            <a:ext cx="21412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dfdddd"/>
                </a:solidFill>
                <a:latin typeface="Roboto"/>
              </a:rPr>
              <a:t>The Firework’s Team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50" name="Rectangle 7"/>
          <p:cNvSpPr/>
          <p:nvPr/>
        </p:nvSpPr>
        <p:spPr>
          <a:xfrm>
            <a:off x="5983200" y="5089680"/>
            <a:ext cx="21416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dfdddd"/>
                </a:solidFill>
                <a:latin typeface="Roboto"/>
              </a:rPr>
              <a:t>Lorem ipsum dolor sit ameti sectetur adipiscing elitil koal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51" name="Rectangle 8"/>
          <p:cNvSpPr/>
          <p:nvPr/>
        </p:nvSpPr>
        <p:spPr>
          <a:xfrm>
            <a:off x="5983200" y="4497480"/>
            <a:ext cx="180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7e6e6"/>
                </a:solidFill>
                <a:latin typeface="Roboto"/>
              </a:rPr>
              <a:t>Takiyaki Best</a:t>
            </a:r>
            <a:endParaRPr b="0" lang="en-US" sz="16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52" name="Rectangle 10"/>
          <p:cNvSpPr/>
          <p:nvPr/>
        </p:nvSpPr>
        <p:spPr>
          <a:xfrm>
            <a:off x="5983200" y="4797360"/>
            <a:ext cx="214164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dfdddd"/>
                </a:solidFill>
                <a:latin typeface="Roboto"/>
              </a:rPr>
              <a:t>The Firework’s Team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53" name="Rectangle 32"/>
          <p:cNvSpPr/>
          <p:nvPr/>
        </p:nvSpPr>
        <p:spPr>
          <a:xfrm>
            <a:off x="8709120" y="5118120"/>
            <a:ext cx="21412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dfdddd"/>
                </a:solidFill>
                <a:latin typeface="Roboto"/>
              </a:rPr>
              <a:t>Lorem ipsum dolor sit ameti sectetur adipiscing elitil koal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54" name="Rectangle 34"/>
          <p:cNvSpPr/>
          <p:nvPr/>
        </p:nvSpPr>
        <p:spPr>
          <a:xfrm>
            <a:off x="8709120" y="4525920"/>
            <a:ext cx="180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7e6e6"/>
                </a:solidFill>
                <a:latin typeface="Roboto"/>
              </a:rPr>
              <a:t>Makula Best</a:t>
            </a:r>
            <a:endParaRPr b="0" lang="en-US" sz="16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55" name="Rectangle 36"/>
          <p:cNvSpPr/>
          <p:nvPr/>
        </p:nvSpPr>
        <p:spPr>
          <a:xfrm>
            <a:off x="8709120" y="4826160"/>
            <a:ext cx="21412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dfdddd"/>
                </a:solidFill>
                <a:latin typeface="Roboto"/>
              </a:rPr>
              <a:t>The Firework’s Team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56" name="TextBox 38"/>
          <p:cNvSpPr/>
          <p:nvPr/>
        </p:nvSpPr>
        <p:spPr>
          <a:xfrm>
            <a:off x="5983200" y="1541520"/>
            <a:ext cx="306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 Bold"/>
              </a:rPr>
              <a:t>Let’s Meet Our </a:t>
            </a:r>
            <a:r>
              <a:rPr b="0" lang="en-US" sz="3200" spc="-1" strike="noStrike">
                <a:solidFill>
                  <a:srgbClr val="ec8d0e"/>
                </a:solidFill>
                <a:latin typeface="Cabin Bold"/>
              </a:rPr>
              <a:t>Team Here</a:t>
            </a:r>
            <a:endParaRPr b="0" lang="en-US" sz="32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Oval 1"/>
          <p:cNvSpPr/>
          <p:nvPr/>
        </p:nvSpPr>
        <p:spPr>
          <a:xfrm>
            <a:off x="609480" y="673200"/>
            <a:ext cx="123840" cy="123840"/>
          </a:xfrm>
          <a:prstGeom prst="ellipse">
            <a:avLst/>
          </a:pr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58" name="Oval 2"/>
          <p:cNvSpPr/>
          <p:nvPr/>
        </p:nvSpPr>
        <p:spPr>
          <a:xfrm>
            <a:off x="866880" y="673200"/>
            <a:ext cx="122040" cy="123840"/>
          </a:xfrm>
          <a:prstGeom prst="ellipse">
            <a:avLst/>
          </a:pr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59" name="Oval 4"/>
          <p:cNvSpPr/>
          <p:nvPr/>
        </p:nvSpPr>
        <p:spPr>
          <a:xfrm>
            <a:off x="1122480" y="673200"/>
            <a:ext cx="123840" cy="123840"/>
          </a:xfrm>
          <a:prstGeom prst="ellipse">
            <a:avLst/>
          </a:pr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60" name="Oval 8"/>
          <p:cNvSpPr/>
          <p:nvPr/>
        </p:nvSpPr>
        <p:spPr>
          <a:xfrm>
            <a:off x="866880" y="934920"/>
            <a:ext cx="122040" cy="123840"/>
          </a:xfrm>
          <a:prstGeom prst="ellipse">
            <a:avLst/>
          </a:pr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61" name="TextBox 10"/>
          <p:cNvSpPr/>
          <p:nvPr/>
        </p:nvSpPr>
        <p:spPr>
          <a:xfrm>
            <a:off x="528480" y="6024600"/>
            <a:ext cx="1646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9c6c6"/>
                </a:solidFill>
                <a:latin typeface="Roboto"/>
              </a:rPr>
              <a:t>The Firework Celebration</a:t>
            </a:r>
            <a:endParaRPr b="0" lang="en-US" sz="9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62" name="TextBox 3"/>
          <p:cNvSpPr/>
          <p:nvPr/>
        </p:nvSpPr>
        <p:spPr>
          <a:xfrm>
            <a:off x="1419120" y="1490760"/>
            <a:ext cx="3441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 Bold"/>
              </a:rPr>
              <a:t>Meet Our General </a:t>
            </a:r>
            <a:r>
              <a:rPr b="0" lang="en-US" sz="3200" spc="-1" strike="noStrike">
                <a:solidFill>
                  <a:srgbClr val="ec8d0e"/>
                </a:solidFill>
                <a:latin typeface="Cabin Bold"/>
              </a:rPr>
              <a:t>Manager Here</a:t>
            </a:r>
            <a:endParaRPr b="0" lang="en-US" sz="3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63" name="Rectangle 5"/>
          <p:cNvSpPr/>
          <p:nvPr/>
        </p:nvSpPr>
        <p:spPr>
          <a:xfrm>
            <a:off x="1447920" y="3540240"/>
            <a:ext cx="4705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Roboto"/>
              </a:rPr>
              <a:t>Lorem ipsum dolor sit amet, consectetur adipiscing elit.</a:t>
            </a:r>
            <a:r>
              <a:rPr b="0" lang="en-US" sz="1200" spc="-1" strike="noStrike">
                <a:solidFill>
                  <a:srgbClr val="ffffff"/>
                </a:solidFill>
                <a:latin typeface="Roboto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Roboto"/>
              </a:rPr>
              <a:t>Proin sed libero in magna ultrices gravida sit ametat diam.</a:t>
            </a:r>
            <a:r>
              <a:rPr b="0" lang="en-US" sz="1200" spc="-1" strike="noStrike">
                <a:solidFill>
                  <a:srgbClr val="ffffff"/>
                </a:solidFill>
                <a:latin typeface="Roboto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Roboto"/>
              </a:rPr>
              <a:t>Suspen disse plac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64" name="Rectangle 7"/>
          <p:cNvSpPr/>
          <p:nvPr/>
        </p:nvSpPr>
        <p:spPr>
          <a:xfrm>
            <a:off x="1541520" y="4689360"/>
            <a:ext cx="4022640" cy="92160"/>
          </a:xfrm>
          <a:prstGeom prst="rect">
            <a:avLst/>
          </a:prstGeom>
          <a:solidFill>
            <a:srgbClr val="c9c6c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65" name="Rectangle 13"/>
          <p:cNvSpPr/>
          <p:nvPr/>
        </p:nvSpPr>
        <p:spPr>
          <a:xfrm>
            <a:off x="1541520" y="4689360"/>
            <a:ext cx="3565440" cy="92160"/>
          </a:xfrm>
          <a:prstGeom prst="rect">
            <a:avLst/>
          </a:prstGeom>
          <a:solidFill>
            <a:srgbClr val="b16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66" name="TextBox 17"/>
          <p:cNvSpPr/>
          <p:nvPr/>
        </p:nvSpPr>
        <p:spPr>
          <a:xfrm flipH="1">
            <a:off x="5791320" y="4570560"/>
            <a:ext cx="45720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Roboto"/>
                <a:ea typeface="Lato Medium"/>
              </a:rPr>
              <a:t>90%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67" name="TextBox 19"/>
          <p:cNvSpPr/>
          <p:nvPr/>
        </p:nvSpPr>
        <p:spPr>
          <a:xfrm flipH="1">
            <a:off x="1544760" y="4365720"/>
            <a:ext cx="192384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200" spc="-1" strike="noStrike">
                <a:solidFill>
                  <a:srgbClr val="ffffff"/>
                </a:solidFill>
                <a:latin typeface="Roboto"/>
                <a:ea typeface="Lato Medium"/>
              </a:rPr>
              <a:t>Type Your Skill Here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68" name="Rectangle 21"/>
          <p:cNvSpPr/>
          <p:nvPr/>
        </p:nvSpPr>
        <p:spPr>
          <a:xfrm>
            <a:off x="1541520" y="5267160"/>
            <a:ext cx="4022640" cy="92160"/>
          </a:xfrm>
          <a:prstGeom prst="rect">
            <a:avLst/>
          </a:prstGeom>
          <a:solidFill>
            <a:srgbClr val="c9c6c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69" name="Rectangle 23"/>
          <p:cNvSpPr/>
          <p:nvPr/>
        </p:nvSpPr>
        <p:spPr>
          <a:xfrm>
            <a:off x="1541520" y="5267160"/>
            <a:ext cx="3290760" cy="92160"/>
          </a:xfrm>
          <a:prstGeom prst="rect">
            <a:avLst/>
          </a:prstGeom>
          <a:solidFill>
            <a:srgbClr val="b16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70" name="TextBox 25"/>
          <p:cNvSpPr/>
          <p:nvPr/>
        </p:nvSpPr>
        <p:spPr>
          <a:xfrm flipH="1">
            <a:off x="5791320" y="5148360"/>
            <a:ext cx="45720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Roboto"/>
                <a:ea typeface="Lato Medium"/>
              </a:rPr>
              <a:t>80</a:t>
            </a:r>
            <a:r>
              <a:rPr b="0" lang="en-ID" sz="1200" spc="-1" strike="noStrike">
                <a:solidFill>
                  <a:srgbClr val="ffffff"/>
                </a:solidFill>
                <a:latin typeface="Roboto"/>
                <a:ea typeface="Lato Medium"/>
              </a:rPr>
              <a:t>%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71" name="TextBox 27"/>
          <p:cNvSpPr/>
          <p:nvPr/>
        </p:nvSpPr>
        <p:spPr>
          <a:xfrm flipH="1">
            <a:off x="1544760" y="4944960"/>
            <a:ext cx="192384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200" spc="-1" strike="noStrike">
                <a:solidFill>
                  <a:srgbClr val="ffffff"/>
                </a:solidFill>
                <a:latin typeface="Roboto"/>
                <a:ea typeface="Lato Medium"/>
              </a:rPr>
              <a:t>Type Your Skill Here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72" name="Rectangle 29"/>
          <p:cNvSpPr/>
          <p:nvPr/>
        </p:nvSpPr>
        <p:spPr>
          <a:xfrm>
            <a:off x="1447920" y="2955960"/>
            <a:ext cx="2020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"/>
              </a:rPr>
              <a:t>Your Name Here</a:t>
            </a:r>
            <a:endParaRPr b="0" lang="en-US" sz="16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73" name="Rectangle 31"/>
          <p:cNvSpPr/>
          <p:nvPr/>
        </p:nvSpPr>
        <p:spPr>
          <a:xfrm>
            <a:off x="1447920" y="3255840"/>
            <a:ext cx="21412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Roboto"/>
              </a:rPr>
              <a:t>The Position Here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4" name="Group 3"/>
          <p:cNvGrpSpPr/>
          <p:nvPr/>
        </p:nvGrpSpPr>
        <p:grpSpPr>
          <a:xfrm>
            <a:off x="11133000" y="5727600"/>
            <a:ext cx="465120" cy="465120"/>
            <a:chOff x="11133000" y="5727600"/>
            <a:chExt cx="465120" cy="465120"/>
          </a:xfrm>
        </p:grpSpPr>
        <p:sp>
          <p:nvSpPr>
            <p:cNvPr id="875" name="Freeform: Shape 4"/>
            <p:cNvSpPr/>
            <p:nvPr/>
          </p:nvSpPr>
          <p:spPr>
            <a:xfrm flipH="1">
              <a:off x="11133000" y="5727600"/>
              <a:ext cx="465120" cy="465120"/>
            </a:xfrm>
            <a:custGeom>
              <a:avLst/>
              <a:gdLst/>
              <a:ahLst/>
              <a:rect l="l" t="t" r="r" b="b"/>
              <a:pathLst>
                <a:path w="1692442" h="1692442">
                  <a:moveTo>
                    <a:pt x="0" y="0"/>
                  </a:moveTo>
                  <a:cubicBezTo>
                    <a:pt x="934710" y="0"/>
                    <a:pt x="1692442" y="757732"/>
                    <a:pt x="1692442" y="1692442"/>
                  </a:cubicBezTo>
                  <a:lnTo>
                    <a:pt x="0" y="16924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8d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Roboto"/>
              </a:endParaRPr>
            </a:p>
          </p:txBody>
        </p:sp>
        <p:sp>
          <p:nvSpPr>
            <p:cNvPr id="876" name="Freeform: Shape 5"/>
            <p:cNvSpPr/>
            <p:nvPr/>
          </p:nvSpPr>
          <p:spPr>
            <a:xfrm flipH="1">
              <a:off x="11270520" y="5865480"/>
              <a:ext cx="327240" cy="327240"/>
            </a:xfrm>
            <a:custGeom>
              <a:avLst/>
              <a:gdLst/>
              <a:ahLst/>
              <a:rect l="l" t="t" r="r" b="b"/>
              <a:pathLst>
                <a:path w="1692442" h="1692442">
                  <a:moveTo>
                    <a:pt x="0" y="0"/>
                  </a:moveTo>
                  <a:cubicBezTo>
                    <a:pt x="934710" y="0"/>
                    <a:pt x="1692442" y="757732"/>
                    <a:pt x="1692442" y="1692442"/>
                  </a:cubicBezTo>
                  <a:lnTo>
                    <a:pt x="0" y="16924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82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Roboto"/>
              </a:endParaRPr>
            </a:p>
          </p:txBody>
        </p:sp>
      </p:grpSp>
      <p:sp>
        <p:nvSpPr>
          <p:cNvPr id="877" name="TextBox 6"/>
          <p:cNvSpPr/>
          <p:nvPr/>
        </p:nvSpPr>
        <p:spPr>
          <a:xfrm>
            <a:off x="10225080" y="64440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c6c6"/>
                </a:solidFill>
                <a:latin typeface="Roboto"/>
              </a:rPr>
              <a:t>Happy New Years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78" name="TextBox 1"/>
          <p:cNvSpPr/>
          <p:nvPr/>
        </p:nvSpPr>
        <p:spPr>
          <a:xfrm>
            <a:off x="6334200" y="1515960"/>
            <a:ext cx="3441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 Bold"/>
              </a:rPr>
              <a:t>Meet Our CEO </a:t>
            </a:r>
            <a:r>
              <a:rPr b="0" lang="en-US" sz="3200" spc="-1" strike="noStrike">
                <a:solidFill>
                  <a:srgbClr val="ec8d0e"/>
                </a:solidFill>
                <a:latin typeface="Cabin Bold"/>
              </a:rPr>
              <a:t>And Founder</a:t>
            </a:r>
            <a:endParaRPr b="0" lang="en-US" sz="3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79" name="Rectangle 8"/>
          <p:cNvSpPr/>
          <p:nvPr/>
        </p:nvSpPr>
        <p:spPr>
          <a:xfrm>
            <a:off x="6350040" y="3621240"/>
            <a:ext cx="44258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Roboto"/>
              </a:rPr>
              <a:t>Lorem ipsum dolor sit amet, consectetur adipiscing elit.</a:t>
            </a:r>
            <a:r>
              <a:rPr b="0" lang="en-US" sz="1200" spc="-1" strike="noStrike">
                <a:solidFill>
                  <a:srgbClr val="ffffff"/>
                </a:solidFill>
                <a:latin typeface="Roboto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Roboto"/>
              </a:rPr>
              <a:t>Proin sed libero in magna ultrices gravida sit ametat diam.</a:t>
            </a:r>
            <a:r>
              <a:rPr b="0" lang="en-US" sz="1200" spc="-1" strike="noStrike">
                <a:solidFill>
                  <a:srgbClr val="ffffff"/>
                </a:solidFill>
                <a:latin typeface="Roboto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Roboto"/>
              </a:rPr>
              <a:t>Suspen di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80" name="Rectangle 9"/>
          <p:cNvSpPr/>
          <p:nvPr/>
        </p:nvSpPr>
        <p:spPr>
          <a:xfrm>
            <a:off x="6443640" y="4770360"/>
            <a:ext cx="3657600" cy="90720"/>
          </a:xfrm>
          <a:prstGeom prst="rect">
            <a:avLst/>
          </a:prstGeom>
          <a:solidFill>
            <a:srgbClr val="c9c6c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81" name="Rectangle 11"/>
          <p:cNvSpPr/>
          <p:nvPr/>
        </p:nvSpPr>
        <p:spPr>
          <a:xfrm>
            <a:off x="6443640" y="4770360"/>
            <a:ext cx="3108240" cy="90720"/>
          </a:xfrm>
          <a:prstGeom prst="rect">
            <a:avLst/>
          </a:prstGeom>
          <a:solidFill>
            <a:srgbClr val="b16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82" name="TextBox 13"/>
          <p:cNvSpPr/>
          <p:nvPr/>
        </p:nvSpPr>
        <p:spPr>
          <a:xfrm flipH="1">
            <a:off x="10318680" y="4649760"/>
            <a:ext cx="45720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Roboto"/>
                <a:ea typeface="Lato Medium"/>
              </a:rPr>
              <a:t>90%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83" name="TextBox 17"/>
          <p:cNvSpPr/>
          <p:nvPr/>
        </p:nvSpPr>
        <p:spPr>
          <a:xfrm flipH="1">
            <a:off x="6446880" y="4446720"/>
            <a:ext cx="192384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200" spc="-1" strike="noStrike">
                <a:solidFill>
                  <a:srgbClr val="ffffff"/>
                </a:solidFill>
                <a:latin typeface="Roboto"/>
                <a:ea typeface="Lato Medium"/>
              </a:rPr>
              <a:t>Type Your Skill Here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84" name="Rectangle 19"/>
          <p:cNvSpPr/>
          <p:nvPr/>
        </p:nvSpPr>
        <p:spPr>
          <a:xfrm>
            <a:off x="6443640" y="5348160"/>
            <a:ext cx="3657600" cy="92160"/>
          </a:xfrm>
          <a:prstGeom prst="rect">
            <a:avLst/>
          </a:prstGeom>
          <a:solidFill>
            <a:srgbClr val="c9c6c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85" name="Rectangle 21"/>
          <p:cNvSpPr/>
          <p:nvPr/>
        </p:nvSpPr>
        <p:spPr>
          <a:xfrm>
            <a:off x="6443640" y="5348160"/>
            <a:ext cx="2743200" cy="92160"/>
          </a:xfrm>
          <a:prstGeom prst="rect">
            <a:avLst/>
          </a:prstGeom>
          <a:solidFill>
            <a:srgbClr val="b16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86" name="TextBox 23"/>
          <p:cNvSpPr/>
          <p:nvPr/>
        </p:nvSpPr>
        <p:spPr>
          <a:xfrm flipH="1">
            <a:off x="10318680" y="5229360"/>
            <a:ext cx="45720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Roboto"/>
                <a:ea typeface="Lato Medium"/>
              </a:rPr>
              <a:t>80</a:t>
            </a:r>
            <a:r>
              <a:rPr b="0" lang="en-ID" sz="1200" spc="-1" strike="noStrike">
                <a:solidFill>
                  <a:srgbClr val="ffffff"/>
                </a:solidFill>
                <a:latin typeface="Roboto"/>
                <a:ea typeface="Lato Medium"/>
              </a:rPr>
              <a:t>%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87" name="TextBox 25"/>
          <p:cNvSpPr/>
          <p:nvPr/>
        </p:nvSpPr>
        <p:spPr>
          <a:xfrm flipH="1">
            <a:off x="6446880" y="5024520"/>
            <a:ext cx="192384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200" spc="-1" strike="noStrike">
                <a:solidFill>
                  <a:srgbClr val="ffffff"/>
                </a:solidFill>
                <a:latin typeface="Roboto"/>
                <a:ea typeface="Lato Medium"/>
              </a:rPr>
              <a:t>Type Your Skill Here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88" name="Rectangle 27"/>
          <p:cNvSpPr/>
          <p:nvPr/>
        </p:nvSpPr>
        <p:spPr>
          <a:xfrm>
            <a:off x="6350040" y="3036960"/>
            <a:ext cx="2020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"/>
              </a:rPr>
              <a:t>Your Name Here</a:t>
            </a:r>
            <a:endParaRPr b="0" lang="en-US" sz="16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89" name="Rectangle 29"/>
          <p:cNvSpPr/>
          <p:nvPr/>
        </p:nvSpPr>
        <p:spPr>
          <a:xfrm>
            <a:off x="6350040" y="3336840"/>
            <a:ext cx="214164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Roboto"/>
              </a:rPr>
              <a:t>The Position Here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Oval 1"/>
          <p:cNvSpPr/>
          <p:nvPr/>
        </p:nvSpPr>
        <p:spPr>
          <a:xfrm>
            <a:off x="609480" y="673200"/>
            <a:ext cx="123840" cy="123840"/>
          </a:xfrm>
          <a:prstGeom prst="ellipse">
            <a:avLst/>
          </a:pr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91" name="Oval 5"/>
          <p:cNvSpPr/>
          <p:nvPr/>
        </p:nvSpPr>
        <p:spPr>
          <a:xfrm>
            <a:off x="866880" y="673200"/>
            <a:ext cx="122040" cy="123840"/>
          </a:xfrm>
          <a:prstGeom prst="ellipse">
            <a:avLst/>
          </a:pr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92" name="Oval 7"/>
          <p:cNvSpPr/>
          <p:nvPr/>
        </p:nvSpPr>
        <p:spPr>
          <a:xfrm>
            <a:off x="1122480" y="673200"/>
            <a:ext cx="123840" cy="123840"/>
          </a:xfrm>
          <a:prstGeom prst="ellipse">
            <a:avLst/>
          </a:pr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93" name="Oval 9"/>
          <p:cNvSpPr/>
          <p:nvPr/>
        </p:nvSpPr>
        <p:spPr>
          <a:xfrm>
            <a:off x="866880" y="934920"/>
            <a:ext cx="122040" cy="123840"/>
          </a:xfrm>
          <a:prstGeom prst="ellipse">
            <a:avLst/>
          </a:pr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94" name="TextBox 11"/>
          <p:cNvSpPr/>
          <p:nvPr/>
        </p:nvSpPr>
        <p:spPr>
          <a:xfrm>
            <a:off x="528480" y="6024600"/>
            <a:ext cx="1646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9c6c6"/>
                </a:solidFill>
                <a:latin typeface="Roboto"/>
              </a:rPr>
              <a:t>The Firework Celebration</a:t>
            </a:r>
            <a:endParaRPr b="0" lang="en-US" sz="9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95" name="TextBox 4"/>
          <p:cNvSpPr/>
          <p:nvPr/>
        </p:nvSpPr>
        <p:spPr>
          <a:xfrm>
            <a:off x="1432080" y="1595520"/>
            <a:ext cx="3686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 Bold"/>
              </a:rPr>
              <a:t>Our Firework </a:t>
            </a:r>
            <a:r>
              <a:rPr b="0" lang="en-US" sz="3200" spc="-1" strike="noStrike">
                <a:solidFill>
                  <a:srgbClr val="ec8d0e"/>
                </a:solidFill>
                <a:latin typeface="Cabin Bold"/>
              </a:rPr>
              <a:t>Planner &amp; Designer</a:t>
            </a:r>
            <a:endParaRPr b="0" lang="en-US" sz="3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96" name="Rectangle 6"/>
          <p:cNvSpPr/>
          <p:nvPr/>
        </p:nvSpPr>
        <p:spPr>
          <a:xfrm>
            <a:off x="1447920" y="3654360"/>
            <a:ext cx="4343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Roboto"/>
              </a:rPr>
              <a:t>Lorem ipsum dolor sit amet, consectetur adipiscing elit.</a:t>
            </a:r>
            <a:r>
              <a:rPr b="0" lang="en-US" sz="1200" spc="-1" strike="noStrike">
                <a:solidFill>
                  <a:srgbClr val="ffffff"/>
                </a:solidFill>
                <a:latin typeface="Roboto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Roboto"/>
              </a:rPr>
              <a:t>Proin sed libero in magna ultrices gravida sit ametat diam.</a:t>
            </a:r>
            <a:r>
              <a:rPr b="0" lang="en-US" sz="1200" spc="-1" strike="noStrike">
                <a:solidFill>
                  <a:srgbClr val="ffffff"/>
                </a:solidFill>
                <a:latin typeface="Roboto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Roboto"/>
              </a:rPr>
              <a:t>Suspen</a:t>
            </a:r>
            <a:r>
              <a:rPr b="0" lang="en-US" sz="1200" spc="-1" strike="noStrike">
                <a:solidFill>
                  <a:srgbClr val="ffffff"/>
                </a:solidFill>
                <a:latin typeface="Roboto"/>
              </a:rPr>
              <a:t>il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97" name="Rectangle 8"/>
          <p:cNvSpPr/>
          <p:nvPr/>
        </p:nvSpPr>
        <p:spPr>
          <a:xfrm>
            <a:off x="1541520" y="4803840"/>
            <a:ext cx="3565440" cy="90360"/>
          </a:xfrm>
          <a:prstGeom prst="rect">
            <a:avLst/>
          </a:prstGeom>
          <a:solidFill>
            <a:srgbClr val="c9c6c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98" name="Rectangle 14"/>
          <p:cNvSpPr/>
          <p:nvPr/>
        </p:nvSpPr>
        <p:spPr>
          <a:xfrm>
            <a:off x="1541520" y="4803840"/>
            <a:ext cx="3108240" cy="90360"/>
          </a:xfrm>
          <a:prstGeom prst="rect">
            <a:avLst/>
          </a:prstGeom>
          <a:solidFill>
            <a:srgbClr val="b16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99" name="TextBox 16"/>
          <p:cNvSpPr/>
          <p:nvPr/>
        </p:nvSpPr>
        <p:spPr>
          <a:xfrm flipH="1">
            <a:off x="5391000" y="4683240"/>
            <a:ext cx="45720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Roboto"/>
                <a:ea typeface="Lato Medium"/>
              </a:rPr>
              <a:t>90%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00" name="TextBox 18"/>
          <p:cNvSpPr/>
          <p:nvPr/>
        </p:nvSpPr>
        <p:spPr>
          <a:xfrm flipH="1">
            <a:off x="1544760" y="4479840"/>
            <a:ext cx="192384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200" spc="-1" strike="noStrike">
                <a:solidFill>
                  <a:srgbClr val="ffffff"/>
                </a:solidFill>
                <a:latin typeface="Roboto"/>
                <a:ea typeface="Lato Medium"/>
              </a:rPr>
              <a:t>Type Your Skill Here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01" name="Rectangle 22"/>
          <p:cNvSpPr/>
          <p:nvPr/>
        </p:nvSpPr>
        <p:spPr>
          <a:xfrm>
            <a:off x="1541520" y="5381640"/>
            <a:ext cx="3565440" cy="92160"/>
          </a:xfrm>
          <a:prstGeom prst="rect">
            <a:avLst/>
          </a:prstGeom>
          <a:solidFill>
            <a:srgbClr val="c9c6c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02" name="Rectangle 24"/>
          <p:cNvSpPr/>
          <p:nvPr/>
        </p:nvSpPr>
        <p:spPr>
          <a:xfrm>
            <a:off x="1541520" y="5381640"/>
            <a:ext cx="2833560" cy="92160"/>
          </a:xfrm>
          <a:prstGeom prst="rect">
            <a:avLst/>
          </a:prstGeom>
          <a:solidFill>
            <a:srgbClr val="b16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03" name="TextBox 26"/>
          <p:cNvSpPr/>
          <p:nvPr/>
        </p:nvSpPr>
        <p:spPr>
          <a:xfrm flipH="1">
            <a:off x="5391000" y="5262480"/>
            <a:ext cx="45720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Roboto"/>
                <a:ea typeface="Lato Medium"/>
              </a:rPr>
              <a:t>80</a:t>
            </a:r>
            <a:r>
              <a:rPr b="0" lang="en-ID" sz="1200" spc="-1" strike="noStrike">
                <a:solidFill>
                  <a:srgbClr val="ffffff"/>
                </a:solidFill>
                <a:latin typeface="Roboto"/>
                <a:ea typeface="Lato Medium"/>
              </a:rPr>
              <a:t>%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04" name="TextBox 28"/>
          <p:cNvSpPr/>
          <p:nvPr/>
        </p:nvSpPr>
        <p:spPr>
          <a:xfrm flipH="1">
            <a:off x="1544760" y="5057640"/>
            <a:ext cx="192384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200" spc="-1" strike="noStrike">
                <a:solidFill>
                  <a:srgbClr val="ffffff"/>
                </a:solidFill>
                <a:latin typeface="Roboto"/>
                <a:ea typeface="Lato Medium"/>
              </a:rPr>
              <a:t>Type Your Skill Here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05" name="Rectangle 30"/>
          <p:cNvSpPr/>
          <p:nvPr/>
        </p:nvSpPr>
        <p:spPr>
          <a:xfrm>
            <a:off x="1447920" y="3070080"/>
            <a:ext cx="2020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"/>
              </a:rPr>
              <a:t>Your Name Here</a:t>
            </a:r>
            <a:endParaRPr b="0" lang="en-US" sz="16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06" name="Rectangle 32"/>
          <p:cNvSpPr/>
          <p:nvPr/>
        </p:nvSpPr>
        <p:spPr>
          <a:xfrm>
            <a:off x="1447920" y="3370320"/>
            <a:ext cx="21412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Roboto"/>
              </a:rPr>
              <a:t>The Position Here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Group 6"/>
          <p:cNvGrpSpPr/>
          <p:nvPr/>
        </p:nvGrpSpPr>
        <p:grpSpPr>
          <a:xfrm>
            <a:off x="11133000" y="5727600"/>
            <a:ext cx="465120" cy="465120"/>
            <a:chOff x="11133000" y="5727600"/>
            <a:chExt cx="465120" cy="465120"/>
          </a:xfrm>
        </p:grpSpPr>
        <p:sp>
          <p:nvSpPr>
            <p:cNvPr id="908" name="Freeform: Shape 7"/>
            <p:cNvSpPr/>
            <p:nvPr/>
          </p:nvSpPr>
          <p:spPr>
            <a:xfrm flipH="1">
              <a:off x="11133000" y="5727600"/>
              <a:ext cx="465120" cy="465120"/>
            </a:xfrm>
            <a:custGeom>
              <a:avLst/>
              <a:gdLst/>
              <a:ahLst/>
              <a:rect l="l" t="t" r="r" b="b"/>
              <a:pathLst>
                <a:path w="1692442" h="1692442">
                  <a:moveTo>
                    <a:pt x="0" y="0"/>
                  </a:moveTo>
                  <a:cubicBezTo>
                    <a:pt x="934710" y="0"/>
                    <a:pt x="1692442" y="757732"/>
                    <a:pt x="1692442" y="1692442"/>
                  </a:cubicBezTo>
                  <a:lnTo>
                    <a:pt x="0" y="16924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8d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Roboto"/>
              </a:endParaRPr>
            </a:p>
          </p:txBody>
        </p:sp>
        <p:sp>
          <p:nvSpPr>
            <p:cNvPr id="909" name="Freeform: Shape 8"/>
            <p:cNvSpPr/>
            <p:nvPr/>
          </p:nvSpPr>
          <p:spPr>
            <a:xfrm flipH="1">
              <a:off x="11270520" y="5865480"/>
              <a:ext cx="327240" cy="327240"/>
            </a:xfrm>
            <a:custGeom>
              <a:avLst/>
              <a:gdLst/>
              <a:ahLst/>
              <a:rect l="l" t="t" r="r" b="b"/>
              <a:pathLst>
                <a:path w="1692442" h="1692442">
                  <a:moveTo>
                    <a:pt x="0" y="0"/>
                  </a:moveTo>
                  <a:cubicBezTo>
                    <a:pt x="934710" y="0"/>
                    <a:pt x="1692442" y="757732"/>
                    <a:pt x="1692442" y="1692442"/>
                  </a:cubicBezTo>
                  <a:lnTo>
                    <a:pt x="0" y="16924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82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Roboto"/>
              </a:endParaRPr>
            </a:p>
          </p:txBody>
        </p:sp>
      </p:grpSp>
      <p:sp>
        <p:nvSpPr>
          <p:cNvPr id="910" name="Oval 9"/>
          <p:cNvSpPr/>
          <p:nvPr/>
        </p:nvSpPr>
        <p:spPr>
          <a:xfrm>
            <a:off x="609480" y="673200"/>
            <a:ext cx="123840" cy="123840"/>
          </a:xfrm>
          <a:prstGeom prst="ellipse">
            <a:avLst/>
          </a:pr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11" name="Oval 10"/>
          <p:cNvSpPr/>
          <p:nvPr/>
        </p:nvSpPr>
        <p:spPr>
          <a:xfrm>
            <a:off x="866880" y="673200"/>
            <a:ext cx="122040" cy="123840"/>
          </a:xfrm>
          <a:prstGeom prst="ellipse">
            <a:avLst/>
          </a:pr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12" name="Oval 11"/>
          <p:cNvSpPr/>
          <p:nvPr/>
        </p:nvSpPr>
        <p:spPr>
          <a:xfrm>
            <a:off x="1122480" y="673200"/>
            <a:ext cx="123840" cy="123840"/>
          </a:xfrm>
          <a:prstGeom prst="ellipse">
            <a:avLst/>
          </a:pr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13" name="Oval 12"/>
          <p:cNvSpPr/>
          <p:nvPr/>
        </p:nvSpPr>
        <p:spPr>
          <a:xfrm>
            <a:off x="866880" y="934920"/>
            <a:ext cx="122040" cy="123840"/>
          </a:xfrm>
          <a:prstGeom prst="ellipse">
            <a:avLst/>
          </a:pr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14" name="TextBox 14"/>
          <p:cNvSpPr/>
          <p:nvPr/>
        </p:nvSpPr>
        <p:spPr>
          <a:xfrm>
            <a:off x="528480" y="6024600"/>
            <a:ext cx="1646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9c6c6"/>
                </a:solidFill>
                <a:latin typeface="Roboto"/>
              </a:rPr>
              <a:t>The Firework Celebration</a:t>
            </a:r>
            <a:endParaRPr b="0" lang="en-US" sz="9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15" name="TextBox 15"/>
          <p:cNvSpPr/>
          <p:nvPr/>
        </p:nvSpPr>
        <p:spPr>
          <a:xfrm>
            <a:off x="10225080" y="64440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c6c6"/>
                </a:solidFill>
                <a:latin typeface="Roboto"/>
              </a:rPr>
              <a:t>Happy New Years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16" name="TextBox 1"/>
          <p:cNvSpPr/>
          <p:nvPr/>
        </p:nvSpPr>
        <p:spPr>
          <a:xfrm>
            <a:off x="3540240" y="105876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 Bold"/>
              </a:rPr>
              <a:t>About Our </a:t>
            </a:r>
            <a:r>
              <a:rPr b="0" lang="en-US" sz="3200" spc="-1" strike="noStrike">
                <a:solidFill>
                  <a:srgbClr val="ec8d0e"/>
                </a:solidFill>
                <a:latin typeface="Cabin Bold"/>
              </a:rPr>
              <a:t>Latest Project</a:t>
            </a:r>
            <a:endParaRPr b="0" lang="en-US" sz="3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17" name="Rectangle 22"/>
          <p:cNvSpPr/>
          <p:nvPr/>
        </p:nvSpPr>
        <p:spPr>
          <a:xfrm>
            <a:off x="1174680" y="4911840"/>
            <a:ext cx="2919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ddd"/>
                </a:solidFill>
                <a:latin typeface="Roboto"/>
                <a:ea typeface="Raleway"/>
              </a:rPr>
              <a:t>Lorem ipsum dolor sit amet, conse lectus ornare, viverra ctetur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18" name="TextBox 23"/>
          <p:cNvSpPr/>
          <p:nvPr/>
        </p:nvSpPr>
        <p:spPr>
          <a:xfrm flipH="1">
            <a:off x="1528200" y="4446720"/>
            <a:ext cx="221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7e6e6"/>
                </a:solidFill>
                <a:latin typeface="Roboto"/>
              </a:rPr>
              <a:t>Company Project</a:t>
            </a:r>
            <a:endParaRPr b="0" lang="en-US" sz="16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19" name="Rectangle 25"/>
          <p:cNvSpPr/>
          <p:nvPr/>
        </p:nvSpPr>
        <p:spPr>
          <a:xfrm>
            <a:off x="1754280" y="4651200"/>
            <a:ext cx="17604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200" spc="-1" strike="noStrike">
                <a:solidFill>
                  <a:srgbClr val="dfdddd"/>
                </a:solidFill>
                <a:latin typeface="Roboto"/>
              </a:rPr>
              <a:t>Insert Text Here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20" name="Rectangle 27"/>
          <p:cNvSpPr/>
          <p:nvPr/>
        </p:nvSpPr>
        <p:spPr>
          <a:xfrm>
            <a:off x="4635360" y="4911840"/>
            <a:ext cx="2921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ddd"/>
                </a:solidFill>
                <a:latin typeface="Roboto"/>
                <a:ea typeface="Raleway"/>
              </a:rPr>
              <a:t>Lorem ipsum dolor sit amet, conse lectus ornare, viverra ctetur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21" name="TextBox 28"/>
          <p:cNvSpPr/>
          <p:nvPr/>
        </p:nvSpPr>
        <p:spPr>
          <a:xfrm flipH="1">
            <a:off x="4988880" y="4446720"/>
            <a:ext cx="221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7e6e6"/>
                </a:solidFill>
                <a:latin typeface="Roboto"/>
              </a:rPr>
              <a:t>Company Project</a:t>
            </a:r>
            <a:endParaRPr b="0" lang="en-US" sz="16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22" name="Rectangle 29"/>
          <p:cNvSpPr/>
          <p:nvPr/>
        </p:nvSpPr>
        <p:spPr>
          <a:xfrm>
            <a:off x="5216400" y="4651200"/>
            <a:ext cx="17589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200" spc="-1" strike="noStrike">
                <a:solidFill>
                  <a:srgbClr val="dfdddd"/>
                </a:solidFill>
                <a:latin typeface="Roboto"/>
              </a:rPr>
              <a:t>Insert Text Here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23" name="Rectangle 31"/>
          <p:cNvSpPr/>
          <p:nvPr/>
        </p:nvSpPr>
        <p:spPr>
          <a:xfrm>
            <a:off x="8097840" y="4911840"/>
            <a:ext cx="2919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ddd"/>
                </a:solidFill>
                <a:latin typeface="Roboto"/>
                <a:ea typeface="Raleway"/>
              </a:rPr>
              <a:t>Lorem ipsum dolor sit amet, conse lectus ornare, viverra ctetur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24" name="TextBox 32"/>
          <p:cNvSpPr/>
          <p:nvPr/>
        </p:nvSpPr>
        <p:spPr>
          <a:xfrm flipH="1">
            <a:off x="8449560" y="4446720"/>
            <a:ext cx="221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7e6e6"/>
                </a:solidFill>
                <a:latin typeface="Roboto"/>
              </a:rPr>
              <a:t>Company Project</a:t>
            </a:r>
            <a:endParaRPr b="0" lang="en-US" sz="16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25" name="Rectangle 33"/>
          <p:cNvSpPr/>
          <p:nvPr/>
        </p:nvSpPr>
        <p:spPr>
          <a:xfrm>
            <a:off x="8677440" y="4651200"/>
            <a:ext cx="17604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200" spc="-1" strike="noStrike">
                <a:solidFill>
                  <a:srgbClr val="dfdddd"/>
                </a:solidFill>
                <a:latin typeface="Roboto"/>
              </a:rPr>
              <a:t>Insert Text Here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Freeform: Shape 8"/>
          <p:cNvSpPr/>
          <p:nvPr/>
        </p:nvSpPr>
        <p:spPr>
          <a:xfrm>
            <a:off x="6095880" y="3881520"/>
            <a:ext cx="2325960" cy="2327040"/>
          </a:xfrm>
          <a:custGeom>
            <a:avLst/>
            <a:gdLst/>
            <a:ahLst/>
            <a:rect l="l" t="t" r="r" b="b"/>
            <a:pathLst>
              <a:path w="1692442" h="1692442">
                <a:moveTo>
                  <a:pt x="0" y="0"/>
                </a:moveTo>
                <a:cubicBezTo>
                  <a:pt x="934710" y="0"/>
                  <a:pt x="1692442" y="757732"/>
                  <a:pt x="1692442" y="1692442"/>
                </a:cubicBezTo>
                <a:lnTo>
                  <a:pt x="0" y="1692442"/>
                </a:lnTo>
                <a:lnTo>
                  <a:pt x="0" y="0"/>
                </a:lnTo>
                <a:close/>
              </a:path>
            </a:pathLst>
          </a:cu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51" name="Oval 1"/>
          <p:cNvSpPr/>
          <p:nvPr/>
        </p:nvSpPr>
        <p:spPr>
          <a:xfrm>
            <a:off x="609480" y="673200"/>
            <a:ext cx="123840" cy="123840"/>
          </a:xfrm>
          <a:prstGeom prst="ellipse">
            <a:avLst/>
          </a:pr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52" name="Oval 2"/>
          <p:cNvSpPr/>
          <p:nvPr/>
        </p:nvSpPr>
        <p:spPr>
          <a:xfrm>
            <a:off x="866880" y="673200"/>
            <a:ext cx="122040" cy="123840"/>
          </a:xfrm>
          <a:prstGeom prst="ellipse">
            <a:avLst/>
          </a:pr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53" name="Oval 6"/>
          <p:cNvSpPr/>
          <p:nvPr/>
        </p:nvSpPr>
        <p:spPr>
          <a:xfrm>
            <a:off x="1122480" y="673200"/>
            <a:ext cx="123840" cy="123840"/>
          </a:xfrm>
          <a:prstGeom prst="ellipse">
            <a:avLst/>
          </a:pr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54" name="Oval 10"/>
          <p:cNvSpPr/>
          <p:nvPr/>
        </p:nvSpPr>
        <p:spPr>
          <a:xfrm>
            <a:off x="866880" y="934920"/>
            <a:ext cx="122040" cy="123840"/>
          </a:xfrm>
          <a:prstGeom prst="ellipse">
            <a:avLst/>
          </a:pr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55" name="TextBox 12"/>
          <p:cNvSpPr/>
          <p:nvPr/>
        </p:nvSpPr>
        <p:spPr>
          <a:xfrm>
            <a:off x="528480" y="6024600"/>
            <a:ext cx="1646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9c6c6"/>
                </a:solidFill>
                <a:latin typeface="Roboto"/>
              </a:rPr>
              <a:t>The Firework Celebration</a:t>
            </a:r>
            <a:endParaRPr b="0" lang="en-US" sz="9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56" name="Google Shape;44;p4"/>
          <p:cNvSpPr/>
          <p:nvPr/>
        </p:nvSpPr>
        <p:spPr>
          <a:xfrm>
            <a:off x="1430280" y="3519360"/>
            <a:ext cx="4041720" cy="11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ddd"/>
                </a:solidFill>
                <a:latin typeface="Roboto"/>
                <a:ea typeface="Raleway"/>
              </a:rPr>
              <a:t>Lorem ipsum dolor sit amet, conse lectus ornare, viverra ctetur adipiscing elit. Pellentesque scelerisque male suada libero a pellentesque. Morbi orci sit amet, conse lectus ornare, viverra ctetur adipi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57" name="Freeform: Shape 24"/>
          <p:cNvSpPr/>
          <p:nvPr/>
        </p:nvSpPr>
        <p:spPr>
          <a:xfrm>
            <a:off x="1517760" y="4973760"/>
            <a:ext cx="1172880" cy="330120"/>
          </a:xfrm>
          <a:prstGeom prst="pie">
            <a:avLst/>
          </a:prstGeom>
          <a:solidFill>
            <a:srgbClr val="ec8d0e"/>
          </a:solidFill>
          <a:ln w="28440">
            <a:solidFill>
              <a:srgbClr val="ec8d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dfdddd"/>
                </a:solidFill>
                <a:latin typeface="Roboto"/>
              </a:rPr>
              <a:t>Next</a:t>
            </a:r>
            <a:endParaRPr b="0" lang="en-US" sz="10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58" name="Freeform: Shape 26"/>
          <p:cNvSpPr/>
          <p:nvPr/>
        </p:nvSpPr>
        <p:spPr>
          <a:xfrm>
            <a:off x="2922480" y="4973760"/>
            <a:ext cx="1173240" cy="330120"/>
          </a:xfrm>
          <a:prstGeom prst="pie">
            <a:avLst/>
          </a:prstGeom>
          <a:noFill/>
          <a:ln w="28440">
            <a:solidFill>
              <a:srgbClr val="ec8d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dfdddd"/>
                </a:solidFill>
                <a:latin typeface="Roboto"/>
              </a:rPr>
              <a:t>See More</a:t>
            </a:r>
            <a:endParaRPr b="0" lang="en-US" sz="10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59" name="TextBox 28"/>
          <p:cNvSpPr/>
          <p:nvPr/>
        </p:nvSpPr>
        <p:spPr>
          <a:xfrm>
            <a:off x="1433520" y="1557360"/>
            <a:ext cx="386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 Bold"/>
              </a:rPr>
              <a:t>General Description </a:t>
            </a:r>
            <a:r>
              <a:rPr b="0" lang="en-US" sz="3200" spc="-1" strike="noStrike">
                <a:solidFill>
                  <a:srgbClr val="ec8d0e"/>
                </a:solidFill>
                <a:latin typeface="Cabin Bold"/>
              </a:rPr>
              <a:t>Firework Agency.</a:t>
            </a:r>
            <a:endParaRPr b="0" lang="en-US" sz="32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Oval 1"/>
          <p:cNvSpPr/>
          <p:nvPr/>
        </p:nvSpPr>
        <p:spPr>
          <a:xfrm>
            <a:off x="609480" y="673200"/>
            <a:ext cx="123840" cy="123840"/>
          </a:xfrm>
          <a:prstGeom prst="ellipse">
            <a:avLst/>
          </a:pr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27" name="Oval 3"/>
          <p:cNvSpPr/>
          <p:nvPr/>
        </p:nvSpPr>
        <p:spPr>
          <a:xfrm>
            <a:off x="866880" y="673200"/>
            <a:ext cx="122040" cy="123840"/>
          </a:xfrm>
          <a:prstGeom prst="ellipse">
            <a:avLst/>
          </a:pr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28" name="Oval 5"/>
          <p:cNvSpPr/>
          <p:nvPr/>
        </p:nvSpPr>
        <p:spPr>
          <a:xfrm>
            <a:off x="1122480" y="673200"/>
            <a:ext cx="123840" cy="123840"/>
          </a:xfrm>
          <a:prstGeom prst="ellipse">
            <a:avLst/>
          </a:pr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29" name="Oval 7"/>
          <p:cNvSpPr/>
          <p:nvPr/>
        </p:nvSpPr>
        <p:spPr>
          <a:xfrm>
            <a:off x="866880" y="934920"/>
            <a:ext cx="122040" cy="123840"/>
          </a:xfrm>
          <a:prstGeom prst="ellipse">
            <a:avLst/>
          </a:pr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30" name="TextBox 9"/>
          <p:cNvSpPr/>
          <p:nvPr/>
        </p:nvSpPr>
        <p:spPr>
          <a:xfrm>
            <a:off x="528480" y="6024600"/>
            <a:ext cx="1646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9c6c6"/>
                </a:solidFill>
                <a:latin typeface="Roboto"/>
              </a:rPr>
              <a:t>The Firework Celebration</a:t>
            </a:r>
            <a:endParaRPr b="0" lang="en-US" sz="9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31" name="Google Shape;44;p4"/>
          <p:cNvSpPr/>
          <p:nvPr/>
        </p:nvSpPr>
        <p:spPr>
          <a:xfrm>
            <a:off x="1430280" y="3519360"/>
            <a:ext cx="4665600" cy="11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ddd"/>
                </a:solidFill>
                <a:latin typeface="Roboto"/>
                <a:ea typeface="Raleway"/>
              </a:rPr>
              <a:t>Lorem ipsum dolor sit amet, conse lectus ornare, viverra ctetur adi piscing elit. Pellentesque scelerisque male suada libero a pelle ntesque. Morbi orci sit amet, conse lectus ornare, viverra ctet ur adipi , conse lectus ornare, viverra ctetur adipiscing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32" name="Freeform: Shape 4"/>
          <p:cNvSpPr/>
          <p:nvPr/>
        </p:nvSpPr>
        <p:spPr>
          <a:xfrm>
            <a:off x="1517760" y="4973760"/>
            <a:ext cx="1172880" cy="330120"/>
          </a:xfrm>
          <a:prstGeom prst="pie">
            <a:avLst/>
          </a:prstGeom>
          <a:solidFill>
            <a:srgbClr val="ec8d0e"/>
          </a:solidFill>
          <a:ln w="28440">
            <a:solidFill>
              <a:srgbClr val="ec8d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dfdddd"/>
                </a:solidFill>
                <a:latin typeface="Roboto"/>
              </a:rPr>
              <a:t>Next</a:t>
            </a:r>
            <a:endParaRPr b="0" lang="en-US" sz="10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33" name="Freeform: Shape 6"/>
          <p:cNvSpPr/>
          <p:nvPr/>
        </p:nvSpPr>
        <p:spPr>
          <a:xfrm>
            <a:off x="2922480" y="4973760"/>
            <a:ext cx="1173240" cy="330120"/>
          </a:xfrm>
          <a:prstGeom prst="pie">
            <a:avLst/>
          </a:prstGeom>
          <a:noFill/>
          <a:ln w="28440">
            <a:solidFill>
              <a:srgbClr val="ec8d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dfdddd"/>
                </a:solidFill>
                <a:latin typeface="Roboto"/>
              </a:rPr>
              <a:t>See More</a:t>
            </a:r>
            <a:endParaRPr b="0" lang="en-US" sz="10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34" name="TextBox 14"/>
          <p:cNvSpPr/>
          <p:nvPr/>
        </p:nvSpPr>
        <p:spPr>
          <a:xfrm>
            <a:off x="1433520" y="1557360"/>
            <a:ext cx="386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 Bold"/>
              </a:rPr>
              <a:t>Creative Work For </a:t>
            </a:r>
            <a:r>
              <a:rPr b="0" lang="en-US" sz="3200" spc="-1" strike="noStrike">
                <a:solidFill>
                  <a:srgbClr val="ec8d0e"/>
                </a:solidFill>
                <a:latin typeface="Cabin Bold"/>
              </a:rPr>
              <a:t>New Years Party</a:t>
            </a:r>
            <a:endParaRPr b="0" lang="en-US" sz="32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5" name="Group 4"/>
          <p:cNvGrpSpPr/>
          <p:nvPr/>
        </p:nvGrpSpPr>
        <p:grpSpPr>
          <a:xfrm>
            <a:off x="11133000" y="5727600"/>
            <a:ext cx="465120" cy="465120"/>
            <a:chOff x="11133000" y="5727600"/>
            <a:chExt cx="465120" cy="465120"/>
          </a:xfrm>
        </p:grpSpPr>
        <p:sp>
          <p:nvSpPr>
            <p:cNvPr id="936" name="Freeform: Shape 5"/>
            <p:cNvSpPr/>
            <p:nvPr/>
          </p:nvSpPr>
          <p:spPr>
            <a:xfrm flipH="1">
              <a:off x="11133000" y="5727600"/>
              <a:ext cx="465120" cy="465120"/>
            </a:xfrm>
            <a:custGeom>
              <a:avLst/>
              <a:gdLst/>
              <a:ahLst/>
              <a:rect l="l" t="t" r="r" b="b"/>
              <a:pathLst>
                <a:path w="1692442" h="1692442">
                  <a:moveTo>
                    <a:pt x="0" y="0"/>
                  </a:moveTo>
                  <a:cubicBezTo>
                    <a:pt x="934710" y="0"/>
                    <a:pt x="1692442" y="757732"/>
                    <a:pt x="1692442" y="1692442"/>
                  </a:cubicBezTo>
                  <a:lnTo>
                    <a:pt x="0" y="16924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8d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Roboto"/>
              </a:endParaRPr>
            </a:p>
          </p:txBody>
        </p:sp>
        <p:sp>
          <p:nvSpPr>
            <p:cNvPr id="937" name="Freeform: Shape 6"/>
            <p:cNvSpPr/>
            <p:nvPr/>
          </p:nvSpPr>
          <p:spPr>
            <a:xfrm flipH="1">
              <a:off x="11270520" y="5865480"/>
              <a:ext cx="327240" cy="327240"/>
            </a:xfrm>
            <a:custGeom>
              <a:avLst/>
              <a:gdLst/>
              <a:ahLst/>
              <a:rect l="l" t="t" r="r" b="b"/>
              <a:pathLst>
                <a:path w="1692442" h="1692442">
                  <a:moveTo>
                    <a:pt x="0" y="0"/>
                  </a:moveTo>
                  <a:cubicBezTo>
                    <a:pt x="934710" y="0"/>
                    <a:pt x="1692442" y="757732"/>
                    <a:pt x="1692442" y="1692442"/>
                  </a:cubicBezTo>
                  <a:lnTo>
                    <a:pt x="0" y="16924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82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Roboto"/>
              </a:endParaRPr>
            </a:p>
          </p:txBody>
        </p:sp>
      </p:grpSp>
      <p:sp>
        <p:nvSpPr>
          <p:cNvPr id="938" name="TextBox 7"/>
          <p:cNvSpPr/>
          <p:nvPr/>
        </p:nvSpPr>
        <p:spPr>
          <a:xfrm>
            <a:off x="10225080" y="64440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c6c6"/>
                </a:solidFill>
                <a:latin typeface="Roboto"/>
              </a:rPr>
              <a:t>Happy New Years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39" name="Google Shape;324;p16"/>
          <p:cNvSpPr/>
          <p:nvPr/>
        </p:nvSpPr>
        <p:spPr>
          <a:xfrm>
            <a:off x="6815160" y="3259080"/>
            <a:ext cx="391644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ddd"/>
                </a:solidFill>
                <a:latin typeface="Roboto"/>
                <a:ea typeface="Raleway"/>
              </a:rPr>
              <a:t>Lorem ipsum dolor sit amet, conse lectus ornare, vive rra ctetur adipiscing elit. Pellentesque scele risque male suada libero a pellentesque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40" name="Google Shape;325;p16"/>
          <p:cNvSpPr/>
          <p:nvPr/>
        </p:nvSpPr>
        <p:spPr>
          <a:xfrm>
            <a:off x="6802560" y="3021120"/>
            <a:ext cx="27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7e6e6"/>
                </a:solidFill>
                <a:latin typeface="Roboto"/>
                <a:ea typeface="Raleway"/>
              </a:rPr>
              <a:t>The Portfolio Here</a:t>
            </a:r>
            <a:endParaRPr b="0" lang="en-US" sz="16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41" name="Google Shape;326;p16"/>
          <p:cNvSpPr/>
          <p:nvPr/>
        </p:nvSpPr>
        <p:spPr>
          <a:xfrm>
            <a:off x="5983200" y="2946240"/>
            <a:ext cx="123048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7e6e6"/>
                </a:solidFill>
                <a:latin typeface="Roboto"/>
                <a:ea typeface="Raleway"/>
              </a:rPr>
              <a:t>01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42" name="Google Shape;324;p16"/>
          <p:cNvSpPr/>
          <p:nvPr/>
        </p:nvSpPr>
        <p:spPr>
          <a:xfrm>
            <a:off x="6815160" y="4645080"/>
            <a:ext cx="391644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ddd"/>
                </a:solidFill>
                <a:latin typeface="Roboto"/>
                <a:ea typeface="Raleway"/>
              </a:rPr>
              <a:t>Lorem ipsum dolor sit amet, conse lectus ornare, vive rra ctetur adipiscing elit. Pellentesque scele risque male suada libero a pellentesque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43" name="Google Shape;325;p16"/>
          <p:cNvSpPr/>
          <p:nvPr/>
        </p:nvSpPr>
        <p:spPr>
          <a:xfrm>
            <a:off x="6802560" y="4405320"/>
            <a:ext cx="2774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7e6e6"/>
                </a:solidFill>
                <a:latin typeface="Roboto"/>
                <a:ea typeface="Raleway"/>
              </a:rPr>
              <a:t>The Portfolio Here</a:t>
            </a:r>
            <a:endParaRPr b="0" lang="en-US" sz="16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44" name="Google Shape;326;p16"/>
          <p:cNvSpPr/>
          <p:nvPr/>
        </p:nvSpPr>
        <p:spPr>
          <a:xfrm>
            <a:off x="5983200" y="4332240"/>
            <a:ext cx="123048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7e6e6"/>
                </a:solidFill>
                <a:latin typeface="Roboto"/>
                <a:ea typeface="Raleway"/>
              </a:rPr>
              <a:t>02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45" name="TextBox 20"/>
          <p:cNvSpPr/>
          <p:nvPr/>
        </p:nvSpPr>
        <p:spPr>
          <a:xfrm>
            <a:off x="5983200" y="1414440"/>
            <a:ext cx="385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 Bold"/>
              </a:rPr>
              <a:t>About Our Pomp </a:t>
            </a:r>
            <a:r>
              <a:rPr b="0" lang="en-US" sz="3200" spc="-1" strike="noStrike">
                <a:solidFill>
                  <a:srgbClr val="ec8d0e"/>
                </a:solidFill>
                <a:latin typeface="Cabin Bold"/>
              </a:rPr>
              <a:t>Portfolio Here.</a:t>
            </a:r>
            <a:endParaRPr b="0" lang="en-US" sz="32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Freeform: Shape 5"/>
          <p:cNvSpPr/>
          <p:nvPr/>
        </p:nvSpPr>
        <p:spPr>
          <a:xfrm>
            <a:off x="7048440" y="657360"/>
            <a:ext cx="2772000" cy="5543280"/>
          </a:xfrm>
          <a:custGeom>
            <a:avLst/>
            <a:gdLst/>
            <a:ahLst/>
            <a:rect l="l" t="t" r="r" b="b"/>
            <a:pathLst>
              <a:path w="2771776" h="5543550">
                <a:moveTo>
                  <a:pt x="1" y="0"/>
                </a:moveTo>
                <a:cubicBezTo>
                  <a:pt x="1530810" y="0"/>
                  <a:pt x="2771776" y="1240966"/>
                  <a:pt x="2771776" y="2771775"/>
                </a:cubicBezTo>
                <a:cubicBezTo>
                  <a:pt x="2771776" y="4302584"/>
                  <a:pt x="1530810" y="5543550"/>
                  <a:pt x="1" y="5543550"/>
                </a:cubicBezTo>
                <a:lnTo>
                  <a:pt x="1" y="4371975"/>
                </a:lnTo>
                <a:lnTo>
                  <a:pt x="0" y="4371975"/>
                </a:lnTo>
                <a:lnTo>
                  <a:pt x="0" y="714375"/>
                </a:lnTo>
                <a:lnTo>
                  <a:pt x="1" y="714375"/>
                </a:lnTo>
                <a:lnTo>
                  <a:pt x="1" y="0"/>
                </a:lnTo>
                <a:close/>
              </a:path>
            </a:pathLst>
          </a:custGeom>
          <a:solidFill>
            <a:srgbClr val="ec8d0e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47" name="Oval 1"/>
          <p:cNvSpPr/>
          <p:nvPr/>
        </p:nvSpPr>
        <p:spPr>
          <a:xfrm>
            <a:off x="609480" y="673200"/>
            <a:ext cx="123840" cy="123840"/>
          </a:xfrm>
          <a:prstGeom prst="ellipse">
            <a:avLst/>
          </a:pr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48" name="Oval 2"/>
          <p:cNvSpPr/>
          <p:nvPr/>
        </p:nvSpPr>
        <p:spPr>
          <a:xfrm>
            <a:off x="866880" y="673200"/>
            <a:ext cx="122040" cy="123840"/>
          </a:xfrm>
          <a:prstGeom prst="ellipse">
            <a:avLst/>
          </a:pr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49" name="Oval 4"/>
          <p:cNvSpPr/>
          <p:nvPr/>
        </p:nvSpPr>
        <p:spPr>
          <a:xfrm>
            <a:off x="1122480" y="673200"/>
            <a:ext cx="123840" cy="123840"/>
          </a:xfrm>
          <a:prstGeom prst="ellipse">
            <a:avLst/>
          </a:pr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50" name="Oval 8"/>
          <p:cNvSpPr/>
          <p:nvPr/>
        </p:nvSpPr>
        <p:spPr>
          <a:xfrm>
            <a:off x="866880" y="934920"/>
            <a:ext cx="122040" cy="123840"/>
          </a:xfrm>
          <a:prstGeom prst="ellipse">
            <a:avLst/>
          </a:pr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51" name="TextBox 10"/>
          <p:cNvSpPr/>
          <p:nvPr/>
        </p:nvSpPr>
        <p:spPr>
          <a:xfrm>
            <a:off x="528480" y="6024600"/>
            <a:ext cx="1646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9c6c6"/>
                </a:solidFill>
                <a:latin typeface="Roboto"/>
              </a:rPr>
              <a:t>The Firework Celebration</a:t>
            </a:r>
            <a:endParaRPr b="0" lang="en-US" sz="9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52" name="Google Shape;44;p4"/>
          <p:cNvSpPr/>
          <p:nvPr/>
        </p:nvSpPr>
        <p:spPr>
          <a:xfrm>
            <a:off x="1450800" y="3227400"/>
            <a:ext cx="404208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ddd"/>
                </a:solidFill>
                <a:latin typeface="Roboto"/>
                <a:ea typeface="Raleway"/>
              </a:rPr>
              <a:t>Lorem ipsum dolor sit amet, conse lectus ornare, viverra ctetur adipiscing elit. Pellentesque scelerisque male suada libero a pellentesque. Morbi orci sit amet, 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53" name="Google Shape;44;p4"/>
          <p:cNvSpPr/>
          <p:nvPr/>
        </p:nvSpPr>
        <p:spPr>
          <a:xfrm>
            <a:off x="1450800" y="4338720"/>
            <a:ext cx="404208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ddd"/>
                </a:solidFill>
                <a:latin typeface="Roboto"/>
                <a:ea typeface="Raleway"/>
              </a:rPr>
              <a:t>Lorem ipsum dolor sit amet, conse lectus ornare, viverra ctetur adipiscing elit. Pellentesque scelerisque male suada libero a pellentesque. Morbi orci sit amet, 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54" name="TextBox 7"/>
          <p:cNvSpPr/>
          <p:nvPr/>
        </p:nvSpPr>
        <p:spPr>
          <a:xfrm>
            <a:off x="1433520" y="1574640"/>
            <a:ext cx="3710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 Bold"/>
              </a:rPr>
              <a:t>Look Very Cool For </a:t>
            </a:r>
            <a:r>
              <a:rPr b="0" lang="en-US" sz="3200" spc="-1" strike="noStrike">
                <a:solidFill>
                  <a:srgbClr val="ec8d0e"/>
                </a:solidFill>
                <a:latin typeface="Cabin Bold"/>
              </a:rPr>
              <a:t>New Years Party.</a:t>
            </a:r>
            <a:endParaRPr b="0" lang="en-US" sz="32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5" name="Group 1"/>
          <p:cNvGrpSpPr/>
          <p:nvPr/>
        </p:nvGrpSpPr>
        <p:grpSpPr>
          <a:xfrm>
            <a:off x="11133000" y="5727600"/>
            <a:ext cx="465120" cy="465120"/>
            <a:chOff x="11133000" y="5727600"/>
            <a:chExt cx="465120" cy="465120"/>
          </a:xfrm>
        </p:grpSpPr>
        <p:sp>
          <p:nvSpPr>
            <p:cNvPr id="956" name="Freeform: Shape 2"/>
            <p:cNvSpPr/>
            <p:nvPr/>
          </p:nvSpPr>
          <p:spPr>
            <a:xfrm flipH="1">
              <a:off x="11133000" y="5727600"/>
              <a:ext cx="465120" cy="465120"/>
            </a:xfrm>
            <a:custGeom>
              <a:avLst/>
              <a:gdLst/>
              <a:ahLst/>
              <a:rect l="l" t="t" r="r" b="b"/>
              <a:pathLst>
                <a:path w="1692442" h="1692442">
                  <a:moveTo>
                    <a:pt x="0" y="0"/>
                  </a:moveTo>
                  <a:cubicBezTo>
                    <a:pt x="934710" y="0"/>
                    <a:pt x="1692442" y="757732"/>
                    <a:pt x="1692442" y="1692442"/>
                  </a:cubicBezTo>
                  <a:lnTo>
                    <a:pt x="0" y="16924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8d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Roboto"/>
              </a:endParaRPr>
            </a:p>
          </p:txBody>
        </p:sp>
        <p:sp>
          <p:nvSpPr>
            <p:cNvPr id="957" name="Freeform: Shape 3"/>
            <p:cNvSpPr/>
            <p:nvPr/>
          </p:nvSpPr>
          <p:spPr>
            <a:xfrm flipH="1">
              <a:off x="11270520" y="5865480"/>
              <a:ext cx="327240" cy="327240"/>
            </a:xfrm>
            <a:custGeom>
              <a:avLst/>
              <a:gdLst/>
              <a:ahLst/>
              <a:rect l="l" t="t" r="r" b="b"/>
              <a:pathLst>
                <a:path w="1692442" h="1692442">
                  <a:moveTo>
                    <a:pt x="0" y="0"/>
                  </a:moveTo>
                  <a:cubicBezTo>
                    <a:pt x="934710" y="0"/>
                    <a:pt x="1692442" y="757732"/>
                    <a:pt x="1692442" y="1692442"/>
                  </a:cubicBezTo>
                  <a:lnTo>
                    <a:pt x="0" y="16924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82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Roboto"/>
              </a:endParaRPr>
            </a:p>
          </p:txBody>
        </p:sp>
      </p:grpSp>
      <p:sp>
        <p:nvSpPr>
          <p:cNvPr id="958" name="Oval 4"/>
          <p:cNvSpPr/>
          <p:nvPr/>
        </p:nvSpPr>
        <p:spPr>
          <a:xfrm>
            <a:off x="609480" y="673200"/>
            <a:ext cx="123840" cy="123840"/>
          </a:xfrm>
          <a:prstGeom prst="ellipse">
            <a:avLst/>
          </a:pr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59" name="Oval 5"/>
          <p:cNvSpPr/>
          <p:nvPr/>
        </p:nvSpPr>
        <p:spPr>
          <a:xfrm>
            <a:off x="866880" y="673200"/>
            <a:ext cx="122040" cy="123840"/>
          </a:xfrm>
          <a:prstGeom prst="ellipse">
            <a:avLst/>
          </a:pr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60" name="Oval 6"/>
          <p:cNvSpPr/>
          <p:nvPr/>
        </p:nvSpPr>
        <p:spPr>
          <a:xfrm>
            <a:off x="1122480" y="673200"/>
            <a:ext cx="123840" cy="123840"/>
          </a:xfrm>
          <a:prstGeom prst="ellipse">
            <a:avLst/>
          </a:pr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61" name="Oval 7"/>
          <p:cNvSpPr/>
          <p:nvPr/>
        </p:nvSpPr>
        <p:spPr>
          <a:xfrm>
            <a:off x="866880" y="934920"/>
            <a:ext cx="122040" cy="123840"/>
          </a:xfrm>
          <a:prstGeom prst="ellipse">
            <a:avLst/>
          </a:pr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62" name="TextBox 8"/>
          <p:cNvSpPr/>
          <p:nvPr/>
        </p:nvSpPr>
        <p:spPr>
          <a:xfrm>
            <a:off x="528480" y="6024600"/>
            <a:ext cx="1646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9c6c6"/>
                </a:solidFill>
                <a:latin typeface="Roboto"/>
              </a:rPr>
              <a:t>The Firework Celebration</a:t>
            </a:r>
            <a:endParaRPr b="0" lang="en-US" sz="9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63" name="TextBox 9"/>
          <p:cNvSpPr/>
          <p:nvPr/>
        </p:nvSpPr>
        <p:spPr>
          <a:xfrm>
            <a:off x="10225080" y="64440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c6c6"/>
                </a:solidFill>
                <a:latin typeface="Roboto"/>
              </a:rPr>
              <a:t>Happy New Years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64" name="TextBox 10"/>
          <p:cNvSpPr/>
          <p:nvPr/>
        </p:nvSpPr>
        <p:spPr>
          <a:xfrm>
            <a:off x="1433520" y="1681200"/>
            <a:ext cx="3710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bin Bold"/>
              </a:rPr>
              <a:t>It’s Time </a:t>
            </a:r>
            <a:r>
              <a:rPr b="0" lang="en-US" sz="6600" spc="-1" strike="noStrike">
                <a:solidFill>
                  <a:srgbClr val="ec8d0e"/>
                </a:solidFill>
                <a:latin typeface="Cabin Bold"/>
              </a:rPr>
              <a:t>To Break</a:t>
            </a:r>
            <a:endParaRPr b="0" lang="en-US" sz="66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65" name="Google Shape;44;p4"/>
          <p:cNvSpPr/>
          <p:nvPr/>
        </p:nvSpPr>
        <p:spPr>
          <a:xfrm>
            <a:off x="1433520" y="4192560"/>
            <a:ext cx="464652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ddd"/>
                </a:solidFill>
                <a:latin typeface="Roboto"/>
                <a:ea typeface="Raleway"/>
              </a:rPr>
              <a:t>Lorem ipsum dolor sit amet, conse lectus ornare, viverra ctetur adipiscing elit. Pellentesque scelerisque male suada libero a pe llentesque. Morbi orci sit amet, 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4"/>
          <p:cNvGrpSpPr/>
          <p:nvPr/>
        </p:nvGrpSpPr>
        <p:grpSpPr>
          <a:xfrm>
            <a:off x="11133000" y="5727600"/>
            <a:ext cx="465120" cy="465120"/>
            <a:chOff x="11133000" y="5727600"/>
            <a:chExt cx="465120" cy="465120"/>
          </a:xfrm>
        </p:grpSpPr>
        <p:sp>
          <p:nvSpPr>
            <p:cNvPr id="967" name="Freeform: Shape 5"/>
            <p:cNvSpPr/>
            <p:nvPr/>
          </p:nvSpPr>
          <p:spPr>
            <a:xfrm flipH="1">
              <a:off x="11133000" y="5727600"/>
              <a:ext cx="465120" cy="465120"/>
            </a:xfrm>
            <a:custGeom>
              <a:avLst/>
              <a:gdLst/>
              <a:ahLst/>
              <a:rect l="l" t="t" r="r" b="b"/>
              <a:pathLst>
                <a:path w="1692442" h="1692442">
                  <a:moveTo>
                    <a:pt x="0" y="0"/>
                  </a:moveTo>
                  <a:cubicBezTo>
                    <a:pt x="934710" y="0"/>
                    <a:pt x="1692442" y="757732"/>
                    <a:pt x="1692442" y="1692442"/>
                  </a:cubicBezTo>
                  <a:lnTo>
                    <a:pt x="0" y="16924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8d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Roboto"/>
              </a:endParaRPr>
            </a:p>
          </p:txBody>
        </p:sp>
        <p:sp>
          <p:nvSpPr>
            <p:cNvPr id="968" name="Freeform: Shape 6"/>
            <p:cNvSpPr/>
            <p:nvPr/>
          </p:nvSpPr>
          <p:spPr>
            <a:xfrm flipH="1">
              <a:off x="11270520" y="5865480"/>
              <a:ext cx="327240" cy="327240"/>
            </a:xfrm>
            <a:custGeom>
              <a:avLst/>
              <a:gdLst/>
              <a:ahLst/>
              <a:rect l="l" t="t" r="r" b="b"/>
              <a:pathLst>
                <a:path w="1692442" h="1692442">
                  <a:moveTo>
                    <a:pt x="0" y="0"/>
                  </a:moveTo>
                  <a:cubicBezTo>
                    <a:pt x="934710" y="0"/>
                    <a:pt x="1692442" y="757732"/>
                    <a:pt x="1692442" y="1692442"/>
                  </a:cubicBezTo>
                  <a:lnTo>
                    <a:pt x="0" y="16924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82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Roboto"/>
              </a:endParaRPr>
            </a:p>
          </p:txBody>
        </p:sp>
      </p:grpSp>
      <p:sp>
        <p:nvSpPr>
          <p:cNvPr id="969" name="TextBox 7"/>
          <p:cNvSpPr/>
          <p:nvPr/>
        </p:nvSpPr>
        <p:spPr>
          <a:xfrm>
            <a:off x="10225080" y="64440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c6c6"/>
                </a:solidFill>
                <a:latin typeface="Roboto"/>
              </a:rPr>
              <a:t>Happy New Years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70" name="Rectangle 2"/>
          <p:cNvSpPr/>
          <p:nvPr/>
        </p:nvSpPr>
        <p:spPr>
          <a:xfrm>
            <a:off x="6102360" y="3551400"/>
            <a:ext cx="2225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dfdddd"/>
                </a:solidFill>
                <a:latin typeface="Roboto"/>
              </a:rPr>
              <a:t>Lorem ipsum dolor sit amet conse ctetur adipiscing elit.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71" name="TextBox 3"/>
          <p:cNvSpPr/>
          <p:nvPr/>
        </p:nvSpPr>
        <p:spPr>
          <a:xfrm flipH="1">
            <a:off x="6095880" y="3086280"/>
            <a:ext cx="220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7e6e6"/>
                </a:solidFill>
                <a:latin typeface="Roboto"/>
              </a:rPr>
              <a:t>The Topic Here</a:t>
            </a:r>
            <a:endParaRPr b="0" lang="en-US" sz="16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72" name="Rectangle 8"/>
          <p:cNvSpPr/>
          <p:nvPr/>
        </p:nvSpPr>
        <p:spPr>
          <a:xfrm>
            <a:off x="6095880" y="3290760"/>
            <a:ext cx="17557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200" spc="-1" strike="noStrike">
                <a:solidFill>
                  <a:srgbClr val="dfdddd"/>
                </a:solidFill>
                <a:latin typeface="Roboto"/>
              </a:rPr>
              <a:t>Insert Text Here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73" name="Rectangle 10"/>
          <p:cNvSpPr/>
          <p:nvPr/>
        </p:nvSpPr>
        <p:spPr>
          <a:xfrm>
            <a:off x="6102360" y="5037120"/>
            <a:ext cx="2225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dfdddd"/>
                </a:solidFill>
                <a:latin typeface="Roboto"/>
              </a:rPr>
              <a:t>Lorem ipsum dolor sit amet conse ctetur adipiscing elit.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74" name="TextBox 12"/>
          <p:cNvSpPr/>
          <p:nvPr/>
        </p:nvSpPr>
        <p:spPr>
          <a:xfrm flipH="1">
            <a:off x="6095160" y="4572000"/>
            <a:ext cx="183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7e6e6"/>
                </a:solidFill>
                <a:latin typeface="Roboto"/>
              </a:rPr>
              <a:t>The Topic Here</a:t>
            </a:r>
            <a:endParaRPr b="0" lang="en-US" sz="16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75" name="Rectangle 14"/>
          <p:cNvSpPr/>
          <p:nvPr/>
        </p:nvSpPr>
        <p:spPr>
          <a:xfrm>
            <a:off x="6095880" y="4776840"/>
            <a:ext cx="17557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200" spc="-1" strike="noStrike">
                <a:solidFill>
                  <a:srgbClr val="dfdddd"/>
                </a:solidFill>
                <a:latin typeface="Roboto"/>
              </a:rPr>
              <a:t>Insert Text Here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76" name="Rectangle 16"/>
          <p:cNvSpPr/>
          <p:nvPr/>
        </p:nvSpPr>
        <p:spPr>
          <a:xfrm>
            <a:off x="8499600" y="3551400"/>
            <a:ext cx="2226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dfdddd"/>
                </a:solidFill>
                <a:latin typeface="Roboto"/>
              </a:rPr>
              <a:t>Lorem ipsum dolor sit amet conse ctetur adipiscing elit.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77" name="TextBox 24"/>
          <p:cNvSpPr/>
          <p:nvPr/>
        </p:nvSpPr>
        <p:spPr>
          <a:xfrm flipH="1">
            <a:off x="8492400" y="3086280"/>
            <a:ext cx="183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7e6e6"/>
                </a:solidFill>
                <a:latin typeface="Roboto"/>
              </a:rPr>
              <a:t>The Topic Here</a:t>
            </a:r>
            <a:endParaRPr b="0" lang="en-US" sz="16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78" name="Rectangle 26"/>
          <p:cNvSpPr/>
          <p:nvPr/>
        </p:nvSpPr>
        <p:spPr>
          <a:xfrm>
            <a:off x="8493120" y="3290760"/>
            <a:ext cx="17575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200" spc="-1" strike="noStrike">
                <a:solidFill>
                  <a:srgbClr val="dfdddd"/>
                </a:solidFill>
                <a:latin typeface="Roboto"/>
              </a:rPr>
              <a:t>Insert Text Here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79" name="Rectangle 28"/>
          <p:cNvSpPr/>
          <p:nvPr/>
        </p:nvSpPr>
        <p:spPr>
          <a:xfrm>
            <a:off x="8499600" y="5037120"/>
            <a:ext cx="2226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dfdddd"/>
                </a:solidFill>
                <a:latin typeface="Roboto"/>
              </a:rPr>
              <a:t>Lorem ipsum dolor sit amet conse ctetur adipiscing elit.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80" name="TextBox 30"/>
          <p:cNvSpPr/>
          <p:nvPr/>
        </p:nvSpPr>
        <p:spPr>
          <a:xfrm flipH="1">
            <a:off x="8492400" y="4572000"/>
            <a:ext cx="183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7e6e6"/>
                </a:solidFill>
                <a:latin typeface="Roboto"/>
              </a:rPr>
              <a:t>The Topic Here</a:t>
            </a:r>
            <a:endParaRPr b="0" lang="en-US" sz="16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81" name="Rectangle 32"/>
          <p:cNvSpPr/>
          <p:nvPr/>
        </p:nvSpPr>
        <p:spPr>
          <a:xfrm>
            <a:off x="8493120" y="4776840"/>
            <a:ext cx="17575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200" spc="-1" strike="noStrike">
                <a:solidFill>
                  <a:srgbClr val="dfdddd"/>
                </a:solidFill>
                <a:latin typeface="Roboto"/>
              </a:rPr>
              <a:t>Insert Text Here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82" name="TextBox 34"/>
          <p:cNvSpPr/>
          <p:nvPr/>
        </p:nvSpPr>
        <p:spPr>
          <a:xfrm>
            <a:off x="6095880" y="1446120"/>
            <a:ext cx="385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 Bold"/>
              </a:rPr>
              <a:t>About Phone </a:t>
            </a:r>
            <a:r>
              <a:rPr b="0" lang="en-US" sz="3200" spc="-1" strike="noStrike">
                <a:solidFill>
                  <a:srgbClr val="ec8d0e"/>
                </a:solidFill>
                <a:latin typeface="Cabin Bold"/>
              </a:rPr>
              <a:t>Mockup Devices.</a:t>
            </a:r>
            <a:endParaRPr b="0" lang="en-US" sz="32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Oval 1"/>
          <p:cNvSpPr/>
          <p:nvPr/>
        </p:nvSpPr>
        <p:spPr>
          <a:xfrm>
            <a:off x="609480" y="673200"/>
            <a:ext cx="123840" cy="123840"/>
          </a:xfrm>
          <a:prstGeom prst="ellipse">
            <a:avLst/>
          </a:pr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84" name="Oval 2"/>
          <p:cNvSpPr/>
          <p:nvPr/>
        </p:nvSpPr>
        <p:spPr>
          <a:xfrm>
            <a:off x="866880" y="673200"/>
            <a:ext cx="122040" cy="123840"/>
          </a:xfrm>
          <a:prstGeom prst="ellipse">
            <a:avLst/>
          </a:pr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85" name="Oval 4"/>
          <p:cNvSpPr/>
          <p:nvPr/>
        </p:nvSpPr>
        <p:spPr>
          <a:xfrm>
            <a:off x="1122480" y="673200"/>
            <a:ext cx="123840" cy="123840"/>
          </a:xfrm>
          <a:prstGeom prst="ellipse">
            <a:avLst/>
          </a:pr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86" name="Oval 6"/>
          <p:cNvSpPr/>
          <p:nvPr/>
        </p:nvSpPr>
        <p:spPr>
          <a:xfrm>
            <a:off x="866880" y="934920"/>
            <a:ext cx="122040" cy="123840"/>
          </a:xfrm>
          <a:prstGeom prst="ellipse">
            <a:avLst/>
          </a:pr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87" name="TextBox 8"/>
          <p:cNvSpPr/>
          <p:nvPr/>
        </p:nvSpPr>
        <p:spPr>
          <a:xfrm>
            <a:off x="528480" y="6024600"/>
            <a:ext cx="1646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9c6c6"/>
                </a:solidFill>
                <a:latin typeface="Roboto"/>
              </a:rPr>
              <a:t>The Firework Celebration</a:t>
            </a:r>
            <a:endParaRPr b="0" lang="en-US" sz="9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88" name="Google Shape;44;p4"/>
          <p:cNvSpPr/>
          <p:nvPr/>
        </p:nvSpPr>
        <p:spPr>
          <a:xfrm>
            <a:off x="1450800" y="3227400"/>
            <a:ext cx="404208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ddd"/>
                </a:solidFill>
                <a:latin typeface="Roboto"/>
                <a:ea typeface="Raleway"/>
              </a:rPr>
              <a:t>Lorem ipsum dolor sit amet, conse lectus ornare, viverra ctetur adipiscing elit. Pellentesque scelerisque male suada libero a pellentesque. Morbi orci sit amet, 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89" name="Google Shape;44;p4"/>
          <p:cNvSpPr/>
          <p:nvPr/>
        </p:nvSpPr>
        <p:spPr>
          <a:xfrm>
            <a:off x="1450800" y="4338720"/>
            <a:ext cx="404208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ddd"/>
                </a:solidFill>
                <a:latin typeface="Roboto"/>
                <a:ea typeface="Raleway"/>
              </a:rPr>
              <a:t>Lorem ipsum dolor sit amet, conse lectus ornare, viverra ctetur adipiscing elit. Pellentesque scelerisque male suada libero a pellentesque. Morbi orci sit amet, 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90" name="TextBox 14"/>
          <p:cNvSpPr/>
          <p:nvPr/>
        </p:nvSpPr>
        <p:spPr>
          <a:xfrm>
            <a:off x="1433520" y="1574640"/>
            <a:ext cx="371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 Bold"/>
              </a:rPr>
              <a:t>About Laptop </a:t>
            </a:r>
            <a:r>
              <a:rPr b="0" lang="en-US" sz="3200" spc="-1" strike="noStrike">
                <a:solidFill>
                  <a:srgbClr val="ec8d0e"/>
                </a:solidFill>
                <a:latin typeface="Cabin Bold"/>
              </a:rPr>
              <a:t>Mockup Devices.</a:t>
            </a:r>
            <a:endParaRPr b="0" lang="en-US" sz="32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1" name="Group 3"/>
          <p:cNvGrpSpPr/>
          <p:nvPr/>
        </p:nvGrpSpPr>
        <p:grpSpPr>
          <a:xfrm>
            <a:off x="11133000" y="5727600"/>
            <a:ext cx="465120" cy="465120"/>
            <a:chOff x="11133000" y="5727600"/>
            <a:chExt cx="465120" cy="465120"/>
          </a:xfrm>
        </p:grpSpPr>
        <p:sp>
          <p:nvSpPr>
            <p:cNvPr id="992" name="Freeform: Shape 4"/>
            <p:cNvSpPr/>
            <p:nvPr/>
          </p:nvSpPr>
          <p:spPr>
            <a:xfrm flipH="1">
              <a:off x="11133000" y="5727600"/>
              <a:ext cx="465120" cy="465120"/>
            </a:xfrm>
            <a:custGeom>
              <a:avLst/>
              <a:gdLst/>
              <a:ahLst/>
              <a:rect l="l" t="t" r="r" b="b"/>
              <a:pathLst>
                <a:path w="1692442" h="1692442">
                  <a:moveTo>
                    <a:pt x="0" y="0"/>
                  </a:moveTo>
                  <a:cubicBezTo>
                    <a:pt x="934710" y="0"/>
                    <a:pt x="1692442" y="757732"/>
                    <a:pt x="1692442" y="1692442"/>
                  </a:cubicBezTo>
                  <a:lnTo>
                    <a:pt x="0" y="16924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8d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Roboto"/>
              </a:endParaRPr>
            </a:p>
          </p:txBody>
        </p:sp>
        <p:sp>
          <p:nvSpPr>
            <p:cNvPr id="993" name="Freeform: Shape 5"/>
            <p:cNvSpPr/>
            <p:nvPr/>
          </p:nvSpPr>
          <p:spPr>
            <a:xfrm flipH="1">
              <a:off x="11270520" y="5865480"/>
              <a:ext cx="327240" cy="327240"/>
            </a:xfrm>
            <a:custGeom>
              <a:avLst/>
              <a:gdLst/>
              <a:ahLst/>
              <a:rect l="l" t="t" r="r" b="b"/>
              <a:pathLst>
                <a:path w="1692442" h="1692442">
                  <a:moveTo>
                    <a:pt x="0" y="0"/>
                  </a:moveTo>
                  <a:cubicBezTo>
                    <a:pt x="934710" y="0"/>
                    <a:pt x="1692442" y="757732"/>
                    <a:pt x="1692442" y="1692442"/>
                  </a:cubicBezTo>
                  <a:lnTo>
                    <a:pt x="0" y="16924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82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Roboto"/>
              </a:endParaRPr>
            </a:p>
          </p:txBody>
        </p:sp>
      </p:grpSp>
      <p:sp>
        <p:nvSpPr>
          <p:cNvPr id="994" name="TextBox 6"/>
          <p:cNvSpPr/>
          <p:nvPr/>
        </p:nvSpPr>
        <p:spPr>
          <a:xfrm>
            <a:off x="10225080" y="64440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c6c6"/>
                </a:solidFill>
                <a:latin typeface="Roboto"/>
              </a:rPr>
              <a:t>Happy New Years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95" name="Google Shape;324;p16"/>
          <p:cNvSpPr/>
          <p:nvPr/>
        </p:nvSpPr>
        <p:spPr>
          <a:xfrm>
            <a:off x="6815160" y="3259080"/>
            <a:ext cx="391644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ddd"/>
                </a:solidFill>
                <a:latin typeface="Roboto"/>
                <a:ea typeface="Raleway"/>
              </a:rPr>
              <a:t>Lorem ipsum dolor sit amet, conse lectus ornare, vive rra ctetur adipiscing elit. Pellentesque scele risque male suada libero a pellentesque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96" name="Google Shape;325;p16"/>
          <p:cNvSpPr/>
          <p:nvPr/>
        </p:nvSpPr>
        <p:spPr>
          <a:xfrm>
            <a:off x="6802560" y="3021120"/>
            <a:ext cx="27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7e6e6"/>
                </a:solidFill>
                <a:latin typeface="Roboto"/>
                <a:ea typeface="Raleway"/>
              </a:rPr>
              <a:t>The Topic Here</a:t>
            </a:r>
            <a:endParaRPr b="0" lang="en-US" sz="16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97" name="Google Shape;326;p16"/>
          <p:cNvSpPr/>
          <p:nvPr/>
        </p:nvSpPr>
        <p:spPr>
          <a:xfrm>
            <a:off x="5983200" y="2946240"/>
            <a:ext cx="123048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7e6e6"/>
                </a:solidFill>
                <a:latin typeface="Roboto"/>
                <a:ea typeface="Raleway"/>
              </a:rPr>
              <a:t>01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98" name="Google Shape;324;p16"/>
          <p:cNvSpPr/>
          <p:nvPr/>
        </p:nvSpPr>
        <p:spPr>
          <a:xfrm>
            <a:off x="6815160" y="4645080"/>
            <a:ext cx="391644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ddd"/>
                </a:solidFill>
                <a:latin typeface="Roboto"/>
                <a:ea typeface="Raleway"/>
              </a:rPr>
              <a:t>Lorem ipsum dolor sit amet, conse lectus ornare, vive rra ctetur adipiscing elit. Pellentesque scele risque male suada libero a pellentesque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99" name="Google Shape;325;p16"/>
          <p:cNvSpPr/>
          <p:nvPr/>
        </p:nvSpPr>
        <p:spPr>
          <a:xfrm>
            <a:off x="6802560" y="4405320"/>
            <a:ext cx="2774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7e6e6"/>
                </a:solidFill>
                <a:latin typeface="Roboto"/>
                <a:ea typeface="Raleway"/>
              </a:rPr>
              <a:t>The Topic Here</a:t>
            </a:r>
            <a:endParaRPr b="0" lang="en-US" sz="16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000" name="Google Shape;326;p16"/>
          <p:cNvSpPr/>
          <p:nvPr/>
        </p:nvSpPr>
        <p:spPr>
          <a:xfrm>
            <a:off x="5983200" y="4332240"/>
            <a:ext cx="123048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7e6e6"/>
                </a:solidFill>
                <a:latin typeface="Roboto"/>
                <a:ea typeface="Raleway"/>
              </a:rPr>
              <a:t>02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001" name="TextBox 22"/>
          <p:cNvSpPr/>
          <p:nvPr/>
        </p:nvSpPr>
        <p:spPr>
          <a:xfrm>
            <a:off x="5983200" y="1414440"/>
            <a:ext cx="385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 Bold"/>
              </a:rPr>
              <a:t>About Tablet </a:t>
            </a:r>
            <a:r>
              <a:rPr b="0" lang="en-US" sz="3200" spc="-1" strike="noStrike">
                <a:solidFill>
                  <a:srgbClr val="ec8d0e"/>
                </a:solidFill>
                <a:latin typeface="Cabin Bold"/>
              </a:rPr>
              <a:t>Mokcup Devices.</a:t>
            </a:r>
            <a:endParaRPr b="0" lang="en-US" sz="32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Oval 1"/>
          <p:cNvSpPr/>
          <p:nvPr/>
        </p:nvSpPr>
        <p:spPr>
          <a:xfrm>
            <a:off x="609480" y="673200"/>
            <a:ext cx="123840" cy="123840"/>
          </a:xfrm>
          <a:prstGeom prst="ellipse">
            <a:avLst/>
          </a:pr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003" name="Oval 2"/>
          <p:cNvSpPr/>
          <p:nvPr/>
        </p:nvSpPr>
        <p:spPr>
          <a:xfrm>
            <a:off x="866880" y="673200"/>
            <a:ext cx="122040" cy="123840"/>
          </a:xfrm>
          <a:prstGeom prst="ellipse">
            <a:avLst/>
          </a:pr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004" name="Oval 4"/>
          <p:cNvSpPr/>
          <p:nvPr/>
        </p:nvSpPr>
        <p:spPr>
          <a:xfrm>
            <a:off x="1122480" y="673200"/>
            <a:ext cx="123840" cy="123840"/>
          </a:xfrm>
          <a:prstGeom prst="ellipse">
            <a:avLst/>
          </a:pr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005" name="Oval 6"/>
          <p:cNvSpPr/>
          <p:nvPr/>
        </p:nvSpPr>
        <p:spPr>
          <a:xfrm>
            <a:off x="866880" y="934920"/>
            <a:ext cx="122040" cy="123840"/>
          </a:xfrm>
          <a:prstGeom prst="ellipse">
            <a:avLst/>
          </a:pr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006" name="TextBox 8"/>
          <p:cNvSpPr/>
          <p:nvPr/>
        </p:nvSpPr>
        <p:spPr>
          <a:xfrm>
            <a:off x="528480" y="6024600"/>
            <a:ext cx="1646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9c6c6"/>
                </a:solidFill>
                <a:latin typeface="Roboto"/>
              </a:rPr>
              <a:t>The Firework Celebration</a:t>
            </a:r>
            <a:endParaRPr b="0" lang="en-US" sz="9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007" name="Google Shape;44;p4"/>
          <p:cNvSpPr/>
          <p:nvPr/>
        </p:nvSpPr>
        <p:spPr>
          <a:xfrm>
            <a:off x="1430280" y="3519360"/>
            <a:ext cx="4041720" cy="11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ddd"/>
                </a:solidFill>
                <a:latin typeface="Roboto"/>
                <a:ea typeface="Raleway"/>
              </a:rPr>
              <a:t>Lorem ipsum dolor sit amet, conse lectus ornare, viverra ctetur adipiscing elit. Pellentesque scelerisque male suada libero a pellentesque. Morbi orci sit amet, conse lectus ornare, viverra ctetur adipi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008" name="Freeform: Shape 5"/>
          <p:cNvSpPr/>
          <p:nvPr/>
        </p:nvSpPr>
        <p:spPr>
          <a:xfrm>
            <a:off x="1517760" y="4973760"/>
            <a:ext cx="1172880" cy="330120"/>
          </a:xfrm>
          <a:prstGeom prst="pie">
            <a:avLst/>
          </a:prstGeom>
          <a:solidFill>
            <a:srgbClr val="ec8d0e"/>
          </a:solidFill>
          <a:ln w="28440">
            <a:solidFill>
              <a:srgbClr val="ec8d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dfdddd"/>
                </a:solidFill>
                <a:latin typeface="Roboto"/>
              </a:rPr>
              <a:t>Next</a:t>
            </a:r>
            <a:endParaRPr b="0" lang="en-US" sz="10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009" name="Freeform: Shape 7"/>
          <p:cNvSpPr/>
          <p:nvPr/>
        </p:nvSpPr>
        <p:spPr>
          <a:xfrm>
            <a:off x="2922480" y="4973760"/>
            <a:ext cx="1173240" cy="330120"/>
          </a:xfrm>
          <a:prstGeom prst="pie">
            <a:avLst/>
          </a:prstGeom>
          <a:noFill/>
          <a:ln w="28440">
            <a:solidFill>
              <a:srgbClr val="ec8d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dfdddd"/>
                </a:solidFill>
                <a:latin typeface="Roboto"/>
              </a:rPr>
              <a:t>See More</a:t>
            </a:r>
            <a:endParaRPr b="0" lang="en-US" sz="10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010" name="TextBox 11"/>
          <p:cNvSpPr/>
          <p:nvPr/>
        </p:nvSpPr>
        <p:spPr>
          <a:xfrm>
            <a:off x="1433520" y="1557360"/>
            <a:ext cx="386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 Bold"/>
              </a:rPr>
              <a:t>General Description </a:t>
            </a:r>
            <a:r>
              <a:rPr b="0" lang="en-US" sz="3200" spc="-1" strike="noStrike">
                <a:solidFill>
                  <a:srgbClr val="ec8d0e"/>
                </a:solidFill>
                <a:latin typeface="Cabin Bold"/>
              </a:rPr>
              <a:t>Firework Agency.</a:t>
            </a:r>
            <a:endParaRPr b="0" lang="en-US" sz="32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Oval 14"/>
          <p:cNvSpPr/>
          <p:nvPr/>
        </p:nvSpPr>
        <p:spPr>
          <a:xfrm>
            <a:off x="5143680" y="2021040"/>
            <a:ext cx="1085760" cy="1085760"/>
          </a:xfrm>
          <a:prstGeom prst="ellipse">
            <a:avLst/>
          </a:prstGeom>
          <a:solidFill>
            <a:srgbClr val="ec8d0e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grpSp>
        <p:nvGrpSpPr>
          <p:cNvPr id="1012" name="Group 3"/>
          <p:cNvGrpSpPr/>
          <p:nvPr/>
        </p:nvGrpSpPr>
        <p:grpSpPr>
          <a:xfrm>
            <a:off x="11133000" y="5727600"/>
            <a:ext cx="465120" cy="465120"/>
            <a:chOff x="11133000" y="5727600"/>
            <a:chExt cx="465120" cy="465120"/>
          </a:xfrm>
        </p:grpSpPr>
        <p:sp>
          <p:nvSpPr>
            <p:cNvPr id="1013" name="Freeform: Shape 4"/>
            <p:cNvSpPr/>
            <p:nvPr/>
          </p:nvSpPr>
          <p:spPr>
            <a:xfrm flipH="1">
              <a:off x="11133000" y="5727600"/>
              <a:ext cx="465120" cy="465120"/>
            </a:xfrm>
            <a:custGeom>
              <a:avLst/>
              <a:gdLst/>
              <a:ahLst/>
              <a:rect l="l" t="t" r="r" b="b"/>
              <a:pathLst>
                <a:path w="1692442" h="1692442">
                  <a:moveTo>
                    <a:pt x="0" y="0"/>
                  </a:moveTo>
                  <a:cubicBezTo>
                    <a:pt x="934710" y="0"/>
                    <a:pt x="1692442" y="757732"/>
                    <a:pt x="1692442" y="1692442"/>
                  </a:cubicBezTo>
                  <a:lnTo>
                    <a:pt x="0" y="16924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8d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Roboto"/>
              </a:endParaRPr>
            </a:p>
          </p:txBody>
        </p:sp>
        <p:sp>
          <p:nvSpPr>
            <p:cNvPr id="1014" name="Freeform: Shape 5"/>
            <p:cNvSpPr/>
            <p:nvPr/>
          </p:nvSpPr>
          <p:spPr>
            <a:xfrm flipH="1">
              <a:off x="11270520" y="5865480"/>
              <a:ext cx="327240" cy="327240"/>
            </a:xfrm>
            <a:custGeom>
              <a:avLst/>
              <a:gdLst/>
              <a:ahLst/>
              <a:rect l="l" t="t" r="r" b="b"/>
              <a:pathLst>
                <a:path w="1692442" h="1692442">
                  <a:moveTo>
                    <a:pt x="0" y="0"/>
                  </a:moveTo>
                  <a:cubicBezTo>
                    <a:pt x="934710" y="0"/>
                    <a:pt x="1692442" y="757732"/>
                    <a:pt x="1692442" y="1692442"/>
                  </a:cubicBezTo>
                  <a:lnTo>
                    <a:pt x="0" y="16924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82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Roboto"/>
              </a:endParaRPr>
            </a:p>
          </p:txBody>
        </p:sp>
      </p:grpSp>
      <p:sp>
        <p:nvSpPr>
          <p:cNvPr id="1015" name="TextBox 6"/>
          <p:cNvSpPr/>
          <p:nvPr/>
        </p:nvSpPr>
        <p:spPr>
          <a:xfrm>
            <a:off x="10225080" y="64440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c6c6"/>
                </a:solidFill>
                <a:latin typeface="Roboto"/>
              </a:rPr>
              <a:t>Happy New Years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016" name="TextBox 8"/>
          <p:cNvSpPr/>
          <p:nvPr/>
        </p:nvSpPr>
        <p:spPr>
          <a:xfrm>
            <a:off x="5521320" y="2249640"/>
            <a:ext cx="513072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bin Bold"/>
              </a:rPr>
              <a:t>Hope Smiles from the threshold of the year to come, Whispering it’s will be happier</a:t>
            </a:r>
            <a:endParaRPr b="0" lang="en-US" sz="2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017" name="Rectangle 9"/>
          <p:cNvSpPr/>
          <p:nvPr/>
        </p:nvSpPr>
        <p:spPr>
          <a:xfrm>
            <a:off x="8566200" y="3965400"/>
            <a:ext cx="914400" cy="79560"/>
          </a:xfrm>
          <a:prstGeom prst="rect">
            <a:avLst/>
          </a:pr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018" name="Google Shape;325;p16"/>
          <p:cNvSpPr/>
          <p:nvPr/>
        </p:nvSpPr>
        <p:spPr>
          <a:xfrm>
            <a:off x="5521320" y="4665600"/>
            <a:ext cx="27748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7e6e6"/>
                </a:solidFill>
                <a:latin typeface="Roboto"/>
                <a:ea typeface="Raleway"/>
              </a:rPr>
              <a:t>Quote By Your Name</a:t>
            </a:r>
            <a:endParaRPr b="0" lang="en-US" sz="16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Oval 1"/>
          <p:cNvSpPr/>
          <p:nvPr/>
        </p:nvSpPr>
        <p:spPr>
          <a:xfrm>
            <a:off x="609480" y="673200"/>
            <a:ext cx="123840" cy="123840"/>
          </a:xfrm>
          <a:prstGeom prst="ellipse">
            <a:avLst/>
          </a:pr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020" name="Oval 2"/>
          <p:cNvSpPr/>
          <p:nvPr/>
        </p:nvSpPr>
        <p:spPr>
          <a:xfrm>
            <a:off x="866880" y="673200"/>
            <a:ext cx="122040" cy="123840"/>
          </a:xfrm>
          <a:prstGeom prst="ellipse">
            <a:avLst/>
          </a:pr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021" name="Oval 8"/>
          <p:cNvSpPr/>
          <p:nvPr/>
        </p:nvSpPr>
        <p:spPr>
          <a:xfrm>
            <a:off x="1122480" y="673200"/>
            <a:ext cx="123840" cy="123840"/>
          </a:xfrm>
          <a:prstGeom prst="ellipse">
            <a:avLst/>
          </a:pr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022" name="Oval 10"/>
          <p:cNvSpPr/>
          <p:nvPr/>
        </p:nvSpPr>
        <p:spPr>
          <a:xfrm>
            <a:off x="866880" y="934920"/>
            <a:ext cx="122040" cy="123840"/>
          </a:xfrm>
          <a:prstGeom prst="ellipse">
            <a:avLst/>
          </a:pr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023" name="TextBox 12"/>
          <p:cNvSpPr/>
          <p:nvPr/>
        </p:nvSpPr>
        <p:spPr>
          <a:xfrm>
            <a:off x="528480" y="6024600"/>
            <a:ext cx="1646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9c6c6"/>
                </a:solidFill>
                <a:latin typeface="Roboto"/>
              </a:rPr>
              <a:t>The Firework Celebration</a:t>
            </a:r>
            <a:endParaRPr b="0" lang="en-US" sz="9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024" name="Rectangle 9"/>
          <p:cNvSpPr/>
          <p:nvPr/>
        </p:nvSpPr>
        <p:spPr>
          <a:xfrm>
            <a:off x="2122560" y="4857840"/>
            <a:ext cx="1522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7e6e6"/>
                </a:solidFill>
                <a:latin typeface="Roboto"/>
              </a:rPr>
              <a:t>Telephone</a:t>
            </a:r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025" name="Rectangle 11"/>
          <p:cNvSpPr/>
          <p:nvPr/>
        </p:nvSpPr>
        <p:spPr>
          <a:xfrm>
            <a:off x="2141640" y="5235480"/>
            <a:ext cx="19159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dfdddd"/>
                </a:solidFill>
                <a:latin typeface="Roboto"/>
              </a:rPr>
              <a:t>0-8-000-000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pic>
        <p:nvPicPr>
          <p:cNvPr id="1026" name="Group 564" descr=""/>
          <p:cNvPicPr/>
          <p:nvPr/>
        </p:nvPicPr>
        <p:blipFill>
          <a:blip r:embed="rId1"/>
          <a:stretch/>
        </p:blipFill>
        <p:spPr>
          <a:xfrm>
            <a:off x="1542960" y="5078520"/>
            <a:ext cx="358920" cy="365040"/>
          </a:xfrm>
          <a:prstGeom prst="rect">
            <a:avLst/>
          </a:prstGeom>
          <a:ln w="0">
            <a:noFill/>
          </a:ln>
        </p:spPr>
      </p:pic>
      <p:sp>
        <p:nvSpPr>
          <p:cNvPr id="1027" name="Freeform 61"/>
          <p:cNvSpPr/>
          <p:nvPr/>
        </p:nvSpPr>
        <p:spPr>
          <a:xfrm>
            <a:off x="1519200" y="3278160"/>
            <a:ext cx="384120" cy="366840"/>
          </a:xfrm>
          <a:custGeom>
            <a:avLst/>
            <a:gdLst/>
            <a:ahLst/>
            <a:rect l="l" t="t" r="r" b="b"/>
            <a:pathLst>
              <a:path w="256" h="244">
                <a:moveTo>
                  <a:pt x="256" y="128"/>
                </a:moveTo>
                <a:cubicBezTo>
                  <a:pt x="256" y="135"/>
                  <a:pt x="251" y="140"/>
                  <a:pt x="244" y="140"/>
                </a:cubicBezTo>
                <a:cubicBezTo>
                  <a:pt x="241" y="140"/>
                  <a:pt x="238" y="139"/>
                  <a:pt x="236" y="137"/>
                </a:cubicBezTo>
                <a:cubicBezTo>
                  <a:pt x="236" y="137"/>
                  <a:pt x="236" y="137"/>
                  <a:pt x="236" y="137"/>
                </a:cubicBezTo>
                <a:cubicBezTo>
                  <a:pt x="128" y="29"/>
                  <a:pt x="128" y="29"/>
                  <a:pt x="128" y="29"/>
                </a:cubicBezTo>
                <a:cubicBezTo>
                  <a:pt x="128" y="29"/>
                  <a:pt x="128" y="29"/>
                  <a:pt x="128" y="29"/>
                </a:cubicBezTo>
                <a:cubicBezTo>
                  <a:pt x="128" y="29"/>
                  <a:pt x="128" y="29"/>
                  <a:pt x="128" y="29"/>
                </a:cubicBezTo>
                <a:cubicBezTo>
                  <a:pt x="20" y="137"/>
                  <a:pt x="20" y="137"/>
                  <a:pt x="20" y="137"/>
                </a:cubicBezTo>
                <a:cubicBezTo>
                  <a:pt x="20" y="137"/>
                  <a:pt x="20" y="137"/>
                  <a:pt x="20" y="137"/>
                </a:cubicBezTo>
                <a:cubicBezTo>
                  <a:pt x="18" y="139"/>
                  <a:pt x="15" y="140"/>
                  <a:pt x="12" y="140"/>
                </a:cubicBezTo>
                <a:cubicBezTo>
                  <a:pt x="5" y="140"/>
                  <a:pt x="0" y="135"/>
                  <a:pt x="0" y="128"/>
                </a:cubicBezTo>
                <a:cubicBezTo>
                  <a:pt x="0" y="125"/>
                  <a:pt x="1" y="122"/>
                  <a:pt x="4" y="119"/>
                </a:cubicBezTo>
                <a:cubicBezTo>
                  <a:pt x="119" y="4"/>
                  <a:pt x="119" y="4"/>
                  <a:pt x="119" y="4"/>
                </a:cubicBezTo>
                <a:cubicBezTo>
                  <a:pt x="122" y="1"/>
                  <a:pt x="125" y="0"/>
                  <a:pt x="128" y="0"/>
                </a:cubicBezTo>
                <a:cubicBezTo>
                  <a:pt x="128" y="0"/>
                  <a:pt x="128" y="0"/>
                  <a:pt x="128" y="0"/>
                </a:cubicBezTo>
                <a:cubicBezTo>
                  <a:pt x="128" y="0"/>
                  <a:pt x="128" y="0"/>
                  <a:pt x="129" y="0"/>
                </a:cubicBezTo>
                <a:cubicBezTo>
                  <a:pt x="129" y="0"/>
                  <a:pt x="129" y="0"/>
                  <a:pt x="129" y="0"/>
                </a:cubicBezTo>
                <a:cubicBezTo>
                  <a:pt x="129" y="0"/>
                  <a:pt x="129" y="0"/>
                  <a:pt x="129" y="0"/>
                </a:cubicBezTo>
                <a:cubicBezTo>
                  <a:pt x="129" y="0"/>
                  <a:pt x="129" y="0"/>
                  <a:pt x="129" y="0"/>
                </a:cubicBezTo>
                <a:cubicBezTo>
                  <a:pt x="132" y="0"/>
                  <a:pt x="135" y="2"/>
                  <a:pt x="137" y="4"/>
                </a:cubicBezTo>
                <a:cubicBezTo>
                  <a:pt x="137" y="4"/>
                  <a:pt x="137" y="4"/>
                  <a:pt x="137" y="4"/>
                </a:cubicBezTo>
                <a:cubicBezTo>
                  <a:pt x="184" y="51"/>
                  <a:pt x="184" y="51"/>
                  <a:pt x="184" y="51"/>
                </a:cubicBezTo>
                <a:cubicBezTo>
                  <a:pt x="184" y="40"/>
                  <a:pt x="184" y="40"/>
                  <a:pt x="184" y="40"/>
                </a:cubicBezTo>
                <a:cubicBezTo>
                  <a:pt x="184" y="33"/>
                  <a:pt x="189" y="28"/>
                  <a:pt x="196" y="28"/>
                </a:cubicBezTo>
                <a:cubicBezTo>
                  <a:pt x="203" y="28"/>
                  <a:pt x="208" y="33"/>
                  <a:pt x="208" y="40"/>
                </a:cubicBezTo>
                <a:cubicBezTo>
                  <a:pt x="208" y="75"/>
                  <a:pt x="208" y="75"/>
                  <a:pt x="208" y="75"/>
                </a:cubicBezTo>
                <a:cubicBezTo>
                  <a:pt x="253" y="120"/>
                  <a:pt x="253" y="120"/>
                  <a:pt x="253" y="120"/>
                </a:cubicBezTo>
                <a:cubicBezTo>
                  <a:pt x="253" y="120"/>
                  <a:pt x="253" y="120"/>
                  <a:pt x="253" y="120"/>
                </a:cubicBezTo>
                <a:cubicBezTo>
                  <a:pt x="255" y="122"/>
                  <a:pt x="256" y="125"/>
                  <a:pt x="256" y="128"/>
                </a:cubicBezTo>
                <a:moveTo>
                  <a:pt x="232" y="148"/>
                </a:moveTo>
                <a:cubicBezTo>
                  <a:pt x="232" y="184"/>
                  <a:pt x="232" y="184"/>
                  <a:pt x="232" y="184"/>
                </a:cubicBezTo>
                <a:cubicBezTo>
                  <a:pt x="232" y="200"/>
                  <a:pt x="232" y="200"/>
                  <a:pt x="232" y="200"/>
                </a:cubicBezTo>
                <a:cubicBezTo>
                  <a:pt x="232" y="232"/>
                  <a:pt x="232" y="232"/>
                  <a:pt x="232" y="232"/>
                </a:cubicBezTo>
                <a:cubicBezTo>
                  <a:pt x="232" y="239"/>
                  <a:pt x="227" y="244"/>
                  <a:pt x="220" y="244"/>
                </a:cubicBezTo>
                <a:cubicBezTo>
                  <a:pt x="196" y="244"/>
                  <a:pt x="196" y="244"/>
                  <a:pt x="196" y="244"/>
                </a:cubicBezTo>
                <a:cubicBezTo>
                  <a:pt x="196" y="148"/>
                  <a:pt x="196" y="148"/>
                  <a:pt x="196" y="148"/>
                </a:cubicBezTo>
                <a:cubicBezTo>
                  <a:pt x="148" y="148"/>
                  <a:pt x="148" y="148"/>
                  <a:pt x="148" y="148"/>
                </a:cubicBezTo>
                <a:cubicBezTo>
                  <a:pt x="148" y="244"/>
                  <a:pt x="148" y="244"/>
                  <a:pt x="148" y="244"/>
                </a:cubicBezTo>
                <a:cubicBezTo>
                  <a:pt x="36" y="244"/>
                  <a:pt x="36" y="244"/>
                  <a:pt x="36" y="244"/>
                </a:cubicBezTo>
                <a:cubicBezTo>
                  <a:pt x="29" y="244"/>
                  <a:pt x="24" y="239"/>
                  <a:pt x="24" y="232"/>
                </a:cubicBezTo>
                <a:cubicBezTo>
                  <a:pt x="24" y="200"/>
                  <a:pt x="24" y="200"/>
                  <a:pt x="24" y="200"/>
                </a:cubicBezTo>
                <a:cubicBezTo>
                  <a:pt x="24" y="184"/>
                  <a:pt x="24" y="184"/>
                  <a:pt x="24" y="184"/>
                </a:cubicBezTo>
                <a:cubicBezTo>
                  <a:pt x="24" y="148"/>
                  <a:pt x="24" y="148"/>
                  <a:pt x="24" y="148"/>
                </a:cubicBezTo>
                <a:cubicBezTo>
                  <a:pt x="128" y="44"/>
                  <a:pt x="128" y="44"/>
                  <a:pt x="128" y="44"/>
                </a:cubicBezTo>
                <a:lnTo>
                  <a:pt x="232" y="148"/>
                </a:lnTo>
                <a:close/>
                <a:moveTo>
                  <a:pt x="108" y="148"/>
                </a:moveTo>
                <a:cubicBezTo>
                  <a:pt x="60" y="148"/>
                  <a:pt x="60" y="148"/>
                  <a:pt x="60" y="148"/>
                </a:cubicBezTo>
                <a:cubicBezTo>
                  <a:pt x="60" y="196"/>
                  <a:pt x="60" y="196"/>
                  <a:pt x="60" y="196"/>
                </a:cubicBezTo>
                <a:cubicBezTo>
                  <a:pt x="108" y="196"/>
                  <a:pt x="108" y="196"/>
                  <a:pt x="108" y="196"/>
                </a:cubicBezTo>
                <a:lnTo>
                  <a:pt x="108" y="148"/>
                </a:lnTo>
                <a:close/>
              </a:path>
            </a:pathLst>
          </a:cu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028" name="Freeform 32"/>
          <p:cNvSpPr/>
          <p:nvPr/>
        </p:nvSpPr>
        <p:spPr>
          <a:xfrm>
            <a:off x="1525680" y="4254480"/>
            <a:ext cx="377640" cy="258840"/>
          </a:xfrm>
          <a:custGeom>
            <a:avLst/>
            <a:gdLst/>
            <a:ahLst/>
            <a:rect l="l" t="t" r="r" b="b"/>
            <a:pathLst>
              <a:path w="256" h="176">
                <a:moveTo>
                  <a:pt x="174" y="79"/>
                </a:moveTo>
                <a:cubicBezTo>
                  <a:pt x="252" y="3"/>
                  <a:pt x="252" y="3"/>
                  <a:pt x="252" y="3"/>
                </a:cubicBezTo>
                <a:cubicBezTo>
                  <a:pt x="255" y="6"/>
                  <a:pt x="256" y="9"/>
                  <a:pt x="256" y="12"/>
                </a:cubicBezTo>
                <a:cubicBezTo>
                  <a:pt x="256" y="164"/>
                  <a:pt x="256" y="164"/>
                  <a:pt x="256" y="164"/>
                </a:cubicBezTo>
                <a:cubicBezTo>
                  <a:pt x="256" y="167"/>
                  <a:pt x="255" y="170"/>
                  <a:pt x="253" y="172"/>
                </a:cubicBezTo>
                <a:lnTo>
                  <a:pt x="174" y="79"/>
                </a:lnTo>
                <a:close/>
                <a:moveTo>
                  <a:pt x="4" y="3"/>
                </a:moveTo>
                <a:cubicBezTo>
                  <a:pt x="6" y="1"/>
                  <a:pt x="9" y="0"/>
                  <a:pt x="12" y="0"/>
                </a:cubicBezTo>
                <a:cubicBezTo>
                  <a:pt x="244" y="0"/>
                  <a:pt x="244" y="0"/>
                  <a:pt x="244" y="0"/>
                </a:cubicBezTo>
                <a:cubicBezTo>
                  <a:pt x="247" y="0"/>
                  <a:pt x="250" y="1"/>
                  <a:pt x="252" y="3"/>
                </a:cubicBezTo>
                <a:cubicBezTo>
                  <a:pt x="128" y="100"/>
                  <a:pt x="128" y="100"/>
                  <a:pt x="128" y="100"/>
                </a:cubicBezTo>
                <a:lnTo>
                  <a:pt x="4" y="3"/>
                </a:lnTo>
                <a:close/>
                <a:moveTo>
                  <a:pt x="3" y="172"/>
                </a:moveTo>
                <a:cubicBezTo>
                  <a:pt x="1" y="170"/>
                  <a:pt x="0" y="167"/>
                  <a:pt x="0" y="164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9"/>
                  <a:pt x="1" y="6"/>
                  <a:pt x="4" y="3"/>
                </a:cubicBezTo>
                <a:cubicBezTo>
                  <a:pt x="82" y="79"/>
                  <a:pt x="82" y="79"/>
                  <a:pt x="82" y="79"/>
                </a:cubicBezTo>
                <a:lnTo>
                  <a:pt x="3" y="172"/>
                </a:lnTo>
                <a:close/>
                <a:moveTo>
                  <a:pt x="128" y="124"/>
                </a:moveTo>
                <a:cubicBezTo>
                  <a:pt x="161" y="92"/>
                  <a:pt x="161" y="92"/>
                  <a:pt x="161" y="92"/>
                </a:cubicBezTo>
                <a:cubicBezTo>
                  <a:pt x="252" y="173"/>
                  <a:pt x="252" y="173"/>
                  <a:pt x="252" y="173"/>
                </a:cubicBezTo>
                <a:cubicBezTo>
                  <a:pt x="250" y="175"/>
                  <a:pt x="247" y="176"/>
                  <a:pt x="244" y="176"/>
                </a:cubicBezTo>
                <a:cubicBezTo>
                  <a:pt x="12" y="176"/>
                  <a:pt x="12" y="176"/>
                  <a:pt x="12" y="176"/>
                </a:cubicBezTo>
                <a:cubicBezTo>
                  <a:pt x="9" y="176"/>
                  <a:pt x="6" y="175"/>
                  <a:pt x="4" y="173"/>
                </a:cubicBezTo>
                <a:cubicBezTo>
                  <a:pt x="95" y="92"/>
                  <a:pt x="95" y="92"/>
                  <a:pt x="95" y="92"/>
                </a:cubicBezTo>
                <a:lnTo>
                  <a:pt x="128" y="124"/>
                </a:lnTo>
                <a:close/>
              </a:path>
            </a:pathLst>
          </a:cu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029" name="Rectangle 19"/>
          <p:cNvSpPr/>
          <p:nvPr/>
        </p:nvSpPr>
        <p:spPr>
          <a:xfrm>
            <a:off x="2106720" y="3525840"/>
            <a:ext cx="3122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D" sz="1200" spc="-1" strike="noStrike">
                <a:solidFill>
                  <a:srgbClr val="dfdddd"/>
                </a:solidFill>
                <a:latin typeface="Roboto"/>
                <a:ea typeface="Calibri"/>
              </a:rPr>
              <a:t>Marketing Pop-Up, 4 - 5 Goodwin Street, Finsbury Park, Singapore, N4 3HQ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030" name="Rectangle 20"/>
          <p:cNvSpPr/>
          <p:nvPr/>
        </p:nvSpPr>
        <p:spPr>
          <a:xfrm>
            <a:off x="2104920" y="3121200"/>
            <a:ext cx="1522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e7e6e6"/>
                </a:solidFill>
                <a:latin typeface="Roboto"/>
              </a:rPr>
              <a:t>Address</a:t>
            </a:r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031" name="Rectangle 21"/>
          <p:cNvSpPr/>
          <p:nvPr/>
        </p:nvSpPr>
        <p:spPr>
          <a:xfrm>
            <a:off x="2104920" y="4464000"/>
            <a:ext cx="270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dfdddd"/>
                </a:solidFill>
                <a:latin typeface="Roboto"/>
                <a:ea typeface="Times New Roman"/>
              </a:rPr>
              <a:t>company</a:t>
            </a:r>
            <a:r>
              <a:rPr b="0" i="1" lang="id-ID" sz="1200" spc="-1" strike="noStrike">
                <a:solidFill>
                  <a:srgbClr val="dfdddd"/>
                </a:solidFill>
                <a:latin typeface="Roboto"/>
                <a:ea typeface="Times New Roman"/>
              </a:rPr>
              <a:t>.mail@email.com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032" name="Rectangle 22"/>
          <p:cNvSpPr/>
          <p:nvPr/>
        </p:nvSpPr>
        <p:spPr>
          <a:xfrm>
            <a:off x="2103480" y="4059360"/>
            <a:ext cx="1522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e7e6e6"/>
                </a:solidFill>
                <a:latin typeface="Roboto"/>
              </a:rPr>
              <a:t>Email</a:t>
            </a:r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033" name="TextBox 23"/>
          <p:cNvSpPr/>
          <p:nvPr/>
        </p:nvSpPr>
        <p:spPr>
          <a:xfrm>
            <a:off x="1433520" y="1557360"/>
            <a:ext cx="386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 Bold"/>
              </a:rPr>
              <a:t>Contact </a:t>
            </a:r>
            <a:r>
              <a:rPr b="0" lang="en-US" sz="3200" spc="-1" strike="noStrike">
                <a:solidFill>
                  <a:srgbClr val="ec8d0e"/>
                </a:solidFill>
                <a:latin typeface="Cabin Bold"/>
              </a:rPr>
              <a:t>Informations.</a:t>
            </a:r>
            <a:endParaRPr b="0" lang="en-US" sz="32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3"/>
          <p:cNvGrpSpPr/>
          <p:nvPr/>
        </p:nvGrpSpPr>
        <p:grpSpPr>
          <a:xfrm>
            <a:off x="11133000" y="5727600"/>
            <a:ext cx="465120" cy="465120"/>
            <a:chOff x="11133000" y="5727600"/>
            <a:chExt cx="465120" cy="465120"/>
          </a:xfrm>
        </p:grpSpPr>
        <p:sp>
          <p:nvSpPr>
            <p:cNvPr id="661" name="Freeform: Shape 4"/>
            <p:cNvSpPr/>
            <p:nvPr/>
          </p:nvSpPr>
          <p:spPr>
            <a:xfrm flipH="1">
              <a:off x="11133000" y="5727600"/>
              <a:ext cx="465120" cy="465120"/>
            </a:xfrm>
            <a:custGeom>
              <a:avLst/>
              <a:gdLst/>
              <a:ahLst/>
              <a:rect l="l" t="t" r="r" b="b"/>
              <a:pathLst>
                <a:path w="1692442" h="1692442">
                  <a:moveTo>
                    <a:pt x="0" y="0"/>
                  </a:moveTo>
                  <a:cubicBezTo>
                    <a:pt x="934710" y="0"/>
                    <a:pt x="1692442" y="757732"/>
                    <a:pt x="1692442" y="1692442"/>
                  </a:cubicBezTo>
                  <a:lnTo>
                    <a:pt x="0" y="16924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8d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Roboto"/>
              </a:endParaRPr>
            </a:p>
          </p:txBody>
        </p:sp>
        <p:sp>
          <p:nvSpPr>
            <p:cNvPr id="662" name="Freeform: Shape 5"/>
            <p:cNvSpPr/>
            <p:nvPr/>
          </p:nvSpPr>
          <p:spPr>
            <a:xfrm flipH="1">
              <a:off x="11270520" y="5865480"/>
              <a:ext cx="327240" cy="327240"/>
            </a:xfrm>
            <a:custGeom>
              <a:avLst/>
              <a:gdLst/>
              <a:ahLst/>
              <a:rect l="l" t="t" r="r" b="b"/>
              <a:pathLst>
                <a:path w="1692442" h="1692442">
                  <a:moveTo>
                    <a:pt x="0" y="0"/>
                  </a:moveTo>
                  <a:cubicBezTo>
                    <a:pt x="934710" y="0"/>
                    <a:pt x="1692442" y="757732"/>
                    <a:pt x="1692442" y="1692442"/>
                  </a:cubicBezTo>
                  <a:lnTo>
                    <a:pt x="0" y="16924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82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Roboto"/>
              </a:endParaRPr>
            </a:p>
          </p:txBody>
        </p:sp>
      </p:grpSp>
      <p:sp>
        <p:nvSpPr>
          <p:cNvPr id="663" name="TextBox 6"/>
          <p:cNvSpPr/>
          <p:nvPr/>
        </p:nvSpPr>
        <p:spPr>
          <a:xfrm>
            <a:off x="10225080" y="64440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c6c6"/>
                </a:solidFill>
                <a:latin typeface="Roboto"/>
              </a:rPr>
              <a:t>Happy New Years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64" name="Google Shape;324;p16"/>
          <p:cNvSpPr/>
          <p:nvPr/>
        </p:nvSpPr>
        <p:spPr>
          <a:xfrm>
            <a:off x="6815160" y="3403440"/>
            <a:ext cx="391644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ddd"/>
                </a:solidFill>
                <a:latin typeface="Roboto"/>
                <a:ea typeface="Raleway"/>
              </a:rPr>
              <a:t>Lorem ipsum dolor sit amet, conse lectus ornare, vive rra ctetur adipiscing elit. Pellentesque scele risque male suada libero a pellentesque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65" name="Google Shape;325;p16"/>
          <p:cNvSpPr/>
          <p:nvPr/>
        </p:nvSpPr>
        <p:spPr>
          <a:xfrm>
            <a:off x="6802560" y="3164040"/>
            <a:ext cx="2774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7e6e6"/>
                </a:solidFill>
                <a:latin typeface="Roboto"/>
                <a:ea typeface="Raleway"/>
              </a:rPr>
              <a:t>Story, January 2000</a:t>
            </a:r>
            <a:endParaRPr b="0" lang="en-US" sz="16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66" name="Google Shape;326;p16"/>
          <p:cNvSpPr/>
          <p:nvPr/>
        </p:nvSpPr>
        <p:spPr>
          <a:xfrm>
            <a:off x="5983200" y="3090960"/>
            <a:ext cx="123048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7e6e6"/>
                </a:solidFill>
                <a:latin typeface="Roboto"/>
                <a:ea typeface="Raleway"/>
              </a:rPr>
              <a:t>01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67" name="Google Shape;324;p16"/>
          <p:cNvSpPr/>
          <p:nvPr/>
        </p:nvSpPr>
        <p:spPr>
          <a:xfrm>
            <a:off x="6815160" y="4789440"/>
            <a:ext cx="3916440" cy="9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ddd"/>
                </a:solidFill>
                <a:latin typeface="Roboto"/>
                <a:ea typeface="Raleway"/>
              </a:rPr>
              <a:t>Lorem ipsum dolor sit amet, conse lectus ornare, vive rra ctetur adipiscing elit. Pellentesque scele risque male suada libero a pellentesque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68" name="Google Shape;325;p16"/>
          <p:cNvSpPr/>
          <p:nvPr/>
        </p:nvSpPr>
        <p:spPr>
          <a:xfrm>
            <a:off x="6802560" y="4549680"/>
            <a:ext cx="27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7e6e6"/>
                </a:solidFill>
                <a:latin typeface="Roboto"/>
                <a:ea typeface="Raleway"/>
              </a:rPr>
              <a:t>Story, December 2000</a:t>
            </a:r>
            <a:endParaRPr b="0" lang="en-US" sz="16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69" name="Google Shape;326;p16"/>
          <p:cNvSpPr/>
          <p:nvPr/>
        </p:nvSpPr>
        <p:spPr>
          <a:xfrm>
            <a:off x="5983200" y="4476600"/>
            <a:ext cx="123048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7e6e6"/>
                </a:solidFill>
                <a:latin typeface="Roboto"/>
                <a:ea typeface="Raleway"/>
              </a:rPr>
              <a:t>02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70" name="TextBox 20"/>
          <p:cNvSpPr/>
          <p:nvPr/>
        </p:nvSpPr>
        <p:spPr>
          <a:xfrm>
            <a:off x="5983200" y="1557360"/>
            <a:ext cx="385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 Bold"/>
              </a:rPr>
              <a:t>The Story About </a:t>
            </a:r>
            <a:r>
              <a:rPr b="0" lang="en-US" sz="3200" spc="-1" strike="noStrike">
                <a:solidFill>
                  <a:srgbClr val="ec8d0e"/>
                </a:solidFill>
                <a:latin typeface="Cabin Bold"/>
              </a:rPr>
              <a:t>Firework Agency.</a:t>
            </a:r>
            <a:endParaRPr b="0" lang="en-US" sz="32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Freeform: Shape 19"/>
          <p:cNvSpPr/>
          <p:nvPr/>
        </p:nvSpPr>
        <p:spPr>
          <a:xfrm>
            <a:off x="6438960" y="1166760"/>
            <a:ext cx="5753160" cy="5691240"/>
          </a:xfrm>
          <a:custGeom>
            <a:avLst/>
            <a:gdLst/>
            <a:ahLst/>
            <a:rect l="l" t="t" r="r" b="b"/>
            <a:pathLst>
              <a:path w="5753437" h="5690892">
                <a:moveTo>
                  <a:pt x="5753437" y="0"/>
                </a:moveTo>
                <a:lnTo>
                  <a:pt x="5753437" y="2960349"/>
                </a:lnTo>
                <a:lnTo>
                  <a:pt x="5490714" y="2985733"/>
                </a:lnTo>
                <a:cubicBezTo>
                  <a:pt x="4154800" y="3176970"/>
                  <a:pt x="3106732" y="4260302"/>
                  <a:pt x="2969372" y="5612862"/>
                </a:cubicBezTo>
                <a:lnTo>
                  <a:pt x="2965432" y="5690892"/>
                </a:lnTo>
                <a:lnTo>
                  <a:pt x="0" y="5690892"/>
                </a:lnTo>
                <a:lnTo>
                  <a:pt x="2023" y="5610863"/>
                </a:lnTo>
                <a:cubicBezTo>
                  <a:pt x="155454" y="2584050"/>
                  <a:pt x="2582428" y="157075"/>
                  <a:pt x="5609241" y="3646"/>
                </a:cubicBezTo>
                <a:lnTo>
                  <a:pt x="5753437" y="0"/>
                </a:lnTo>
                <a:close/>
              </a:path>
            </a:pathLst>
          </a:cu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grpSp>
        <p:nvGrpSpPr>
          <p:cNvPr id="1035" name="Group 21"/>
          <p:cNvGrpSpPr/>
          <p:nvPr/>
        </p:nvGrpSpPr>
        <p:grpSpPr>
          <a:xfrm>
            <a:off x="11133000" y="5727600"/>
            <a:ext cx="465120" cy="465120"/>
            <a:chOff x="11133000" y="5727600"/>
            <a:chExt cx="465120" cy="465120"/>
          </a:xfrm>
        </p:grpSpPr>
        <p:sp>
          <p:nvSpPr>
            <p:cNvPr id="1036" name="Freeform: Shape 18"/>
            <p:cNvSpPr/>
            <p:nvPr/>
          </p:nvSpPr>
          <p:spPr>
            <a:xfrm flipH="1">
              <a:off x="11133000" y="5727600"/>
              <a:ext cx="465120" cy="465120"/>
            </a:xfrm>
            <a:custGeom>
              <a:avLst/>
              <a:gdLst/>
              <a:ahLst/>
              <a:rect l="l" t="t" r="r" b="b"/>
              <a:pathLst>
                <a:path w="1692442" h="1692442">
                  <a:moveTo>
                    <a:pt x="0" y="0"/>
                  </a:moveTo>
                  <a:cubicBezTo>
                    <a:pt x="934710" y="0"/>
                    <a:pt x="1692442" y="757732"/>
                    <a:pt x="1692442" y="1692442"/>
                  </a:cubicBezTo>
                  <a:lnTo>
                    <a:pt x="0" y="16924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8d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Roboto"/>
              </a:endParaRPr>
            </a:p>
          </p:txBody>
        </p:sp>
        <p:sp>
          <p:nvSpPr>
            <p:cNvPr id="1037" name="Freeform: Shape 20"/>
            <p:cNvSpPr/>
            <p:nvPr/>
          </p:nvSpPr>
          <p:spPr>
            <a:xfrm flipH="1">
              <a:off x="11270520" y="5865480"/>
              <a:ext cx="327240" cy="327240"/>
            </a:xfrm>
            <a:custGeom>
              <a:avLst/>
              <a:gdLst/>
              <a:ahLst/>
              <a:rect l="l" t="t" r="r" b="b"/>
              <a:pathLst>
                <a:path w="1692442" h="1692442">
                  <a:moveTo>
                    <a:pt x="0" y="0"/>
                  </a:moveTo>
                  <a:cubicBezTo>
                    <a:pt x="934710" y="0"/>
                    <a:pt x="1692442" y="757732"/>
                    <a:pt x="1692442" y="1692442"/>
                  </a:cubicBezTo>
                  <a:lnTo>
                    <a:pt x="0" y="16924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82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Roboto"/>
              </a:endParaRPr>
            </a:p>
          </p:txBody>
        </p:sp>
      </p:grpSp>
      <p:sp>
        <p:nvSpPr>
          <p:cNvPr id="1038" name="Oval 1"/>
          <p:cNvSpPr/>
          <p:nvPr/>
        </p:nvSpPr>
        <p:spPr>
          <a:xfrm>
            <a:off x="609480" y="673200"/>
            <a:ext cx="123840" cy="123840"/>
          </a:xfrm>
          <a:prstGeom prst="ellipse">
            <a:avLst/>
          </a:pr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039" name="Oval 3"/>
          <p:cNvSpPr/>
          <p:nvPr/>
        </p:nvSpPr>
        <p:spPr>
          <a:xfrm>
            <a:off x="866880" y="673200"/>
            <a:ext cx="122040" cy="123840"/>
          </a:xfrm>
          <a:prstGeom prst="ellipse">
            <a:avLst/>
          </a:pr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040" name="Oval 5"/>
          <p:cNvSpPr/>
          <p:nvPr/>
        </p:nvSpPr>
        <p:spPr>
          <a:xfrm>
            <a:off x="1122480" y="673200"/>
            <a:ext cx="123840" cy="123840"/>
          </a:xfrm>
          <a:prstGeom prst="ellipse">
            <a:avLst/>
          </a:pr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041" name="Oval 7"/>
          <p:cNvSpPr/>
          <p:nvPr/>
        </p:nvSpPr>
        <p:spPr>
          <a:xfrm>
            <a:off x="866880" y="934920"/>
            <a:ext cx="122040" cy="123840"/>
          </a:xfrm>
          <a:prstGeom prst="ellipse">
            <a:avLst/>
          </a:pr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042" name="TextBox 22"/>
          <p:cNvSpPr/>
          <p:nvPr/>
        </p:nvSpPr>
        <p:spPr>
          <a:xfrm>
            <a:off x="528480" y="6024600"/>
            <a:ext cx="1646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9c6c6"/>
                </a:solidFill>
                <a:latin typeface="Roboto"/>
              </a:rPr>
              <a:t>The Firework Celebration</a:t>
            </a:r>
            <a:endParaRPr b="0" lang="en-US" sz="9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043" name="TextBox 23"/>
          <p:cNvSpPr/>
          <p:nvPr/>
        </p:nvSpPr>
        <p:spPr>
          <a:xfrm>
            <a:off x="10225080" y="64440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c6c6"/>
                </a:solidFill>
                <a:latin typeface="Roboto"/>
              </a:rPr>
              <a:t>Happy New Years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044" name="TextBox 2"/>
          <p:cNvSpPr/>
          <p:nvPr/>
        </p:nvSpPr>
        <p:spPr>
          <a:xfrm>
            <a:off x="1351800" y="2144880"/>
            <a:ext cx="535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abin Bold"/>
              </a:rPr>
              <a:t>THANK YOU</a:t>
            </a:r>
            <a:endParaRPr b="0" lang="en-US" sz="7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045" name="TextBox 11"/>
          <p:cNvSpPr/>
          <p:nvPr/>
        </p:nvSpPr>
        <p:spPr>
          <a:xfrm flipH="1">
            <a:off x="2468520" y="3268800"/>
            <a:ext cx="403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7e6e6"/>
                </a:solidFill>
                <a:latin typeface="Roboto"/>
              </a:rPr>
              <a:t>And Time To Say See You Next Time</a:t>
            </a:r>
            <a:endParaRPr b="0" lang="en-US" sz="16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046" name="Rectangle 4"/>
          <p:cNvSpPr/>
          <p:nvPr/>
        </p:nvSpPr>
        <p:spPr>
          <a:xfrm>
            <a:off x="2003400" y="3414600"/>
            <a:ext cx="914400" cy="46080"/>
          </a:xfrm>
          <a:prstGeom prst="rect">
            <a:avLst/>
          </a:pr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047" name="Google Shape;44;p4"/>
          <p:cNvSpPr/>
          <p:nvPr/>
        </p:nvSpPr>
        <p:spPr>
          <a:xfrm>
            <a:off x="1461960" y="4118040"/>
            <a:ext cx="429120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ddd"/>
                </a:solidFill>
                <a:latin typeface="Roboto"/>
                <a:ea typeface="Raleway"/>
              </a:rPr>
              <a:t>Lorem ipsum dolor sit amet, conse lectus ornare, viverra ctetur adipiscing elit. Pellentesque scelerisque male suada libero a pellentesque. Morbi orci sit amet,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048" name="Freeform: Shape 26"/>
          <p:cNvSpPr/>
          <p:nvPr/>
        </p:nvSpPr>
        <p:spPr>
          <a:xfrm flipH="1">
            <a:off x="1522440" y="1739880"/>
            <a:ext cx="403200" cy="401760"/>
          </a:xfrm>
          <a:custGeom>
            <a:avLst/>
            <a:gdLst/>
            <a:ahLst/>
            <a:rect l="l" t="t" r="r" b="b"/>
            <a:pathLst>
              <a:path w="1692442" h="1692442">
                <a:moveTo>
                  <a:pt x="0" y="0"/>
                </a:moveTo>
                <a:cubicBezTo>
                  <a:pt x="934710" y="0"/>
                  <a:pt x="1692442" y="757732"/>
                  <a:pt x="1692442" y="1692442"/>
                </a:cubicBezTo>
                <a:lnTo>
                  <a:pt x="0" y="1692442"/>
                </a:lnTo>
                <a:lnTo>
                  <a:pt x="0" y="0"/>
                </a:lnTo>
                <a:close/>
              </a:path>
            </a:pathLst>
          </a:cu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Oval 2"/>
          <p:cNvSpPr/>
          <p:nvPr/>
        </p:nvSpPr>
        <p:spPr>
          <a:xfrm>
            <a:off x="609480" y="673200"/>
            <a:ext cx="123840" cy="123840"/>
          </a:xfrm>
          <a:prstGeom prst="ellipse">
            <a:avLst/>
          </a:pr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72" name="Oval 4"/>
          <p:cNvSpPr/>
          <p:nvPr/>
        </p:nvSpPr>
        <p:spPr>
          <a:xfrm>
            <a:off x="866880" y="673200"/>
            <a:ext cx="122040" cy="123840"/>
          </a:xfrm>
          <a:prstGeom prst="ellipse">
            <a:avLst/>
          </a:pr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73" name="Oval 6"/>
          <p:cNvSpPr/>
          <p:nvPr/>
        </p:nvSpPr>
        <p:spPr>
          <a:xfrm>
            <a:off x="1122480" y="673200"/>
            <a:ext cx="123840" cy="123840"/>
          </a:xfrm>
          <a:prstGeom prst="ellipse">
            <a:avLst/>
          </a:pr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74" name="Oval 10"/>
          <p:cNvSpPr/>
          <p:nvPr/>
        </p:nvSpPr>
        <p:spPr>
          <a:xfrm>
            <a:off x="866880" y="934920"/>
            <a:ext cx="122040" cy="123840"/>
          </a:xfrm>
          <a:prstGeom prst="ellipse">
            <a:avLst/>
          </a:pr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75" name="TextBox 12"/>
          <p:cNvSpPr/>
          <p:nvPr/>
        </p:nvSpPr>
        <p:spPr>
          <a:xfrm>
            <a:off x="528480" y="6024600"/>
            <a:ext cx="1646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9c6c6"/>
                </a:solidFill>
                <a:latin typeface="Roboto"/>
              </a:rPr>
              <a:t>The Firework Celebration</a:t>
            </a:r>
            <a:endParaRPr b="0" lang="en-US" sz="9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76" name="Google Shape;44;p4"/>
          <p:cNvSpPr/>
          <p:nvPr/>
        </p:nvSpPr>
        <p:spPr>
          <a:xfrm>
            <a:off x="1450800" y="3227400"/>
            <a:ext cx="404208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ddd"/>
                </a:solidFill>
                <a:latin typeface="Roboto"/>
                <a:ea typeface="Raleway"/>
              </a:rPr>
              <a:t>Lorem ipsum dolor sit amet, conse lectus ornare, viverra ctetur adipiscing elit. Pellentesque scelerisque male suada libero a pellentesque. Morbi orci sit amet, 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77" name="Google Shape;44;p4"/>
          <p:cNvSpPr/>
          <p:nvPr/>
        </p:nvSpPr>
        <p:spPr>
          <a:xfrm>
            <a:off x="1450800" y="4338720"/>
            <a:ext cx="404208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ddd"/>
                </a:solidFill>
                <a:latin typeface="Roboto"/>
                <a:ea typeface="Raleway"/>
              </a:rPr>
              <a:t>Lorem ipsum dolor sit amet, conse lectus ornare, viverra ctetur adipiscing elit. Pellentesque scelerisque male suada libero a pellentesque. Morbi orci sit amet, 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78" name="TextBox 7"/>
          <p:cNvSpPr/>
          <p:nvPr/>
        </p:nvSpPr>
        <p:spPr>
          <a:xfrm>
            <a:off x="1433520" y="1574640"/>
            <a:ext cx="386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 Bold"/>
              </a:rPr>
              <a:t>About Company </a:t>
            </a:r>
            <a:r>
              <a:rPr b="0" lang="en-US" sz="3200" spc="-1" strike="noStrike">
                <a:solidFill>
                  <a:srgbClr val="ec8d0e"/>
                </a:solidFill>
                <a:latin typeface="Cabin Bold"/>
              </a:rPr>
              <a:t>History Right Here.</a:t>
            </a:r>
            <a:endParaRPr b="0" lang="en-US" sz="32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Freeform: Shape 2"/>
          <p:cNvSpPr/>
          <p:nvPr/>
        </p:nvSpPr>
        <p:spPr>
          <a:xfrm>
            <a:off x="3321000" y="1198440"/>
            <a:ext cx="2228760" cy="2230560"/>
          </a:xfrm>
          <a:custGeom>
            <a:avLst/>
            <a:gdLst/>
            <a:ahLst/>
            <a:rect l="l" t="t" r="r" b="b"/>
            <a:pathLst>
              <a:path w="1692442" h="1692442">
                <a:moveTo>
                  <a:pt x="0" y="0"/>
                </a:moveTo>
                <a:cubicBezTo>
                  <a:pt x="934710" y="0"/>
                  <a:pt x="1692442" y="757732"/>
                  <a:pt x="1692442" y="1692442"/>
                </a:cubicBezTo>
                <a:lnTo>
                  <a:pt x="0" y="1692442"/>
                </a:lnTo>
                <a:lnTo>
                  <a:pt x="0" y="0"/>
                </a:lnTo>
                <a:close/>
              </a:path>
            </a:pathLst>
          </a:custGeom>
          <a:solidFill>
            <a:srgbClr val="ec8d0e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grpSp>
        <p:nvGrpSpPr>
          <p:cNvPr id="680" name="Group 3"/>
          <p:cNvGrpSpPr/>
          <p:nvPr/>
        </p:nvGrpSpPr>
        <p:grpSpPr>
          <a:xfrm>
            <a:off x="11133000" y="5727600"/>
            <a:ext cx="465120" cy="465120"/>
            <a:chOff x="11133000" y="5727600"/>
            <a:chExt cx="465120" cy="465120"/>
          </a:xfrm>
        </p:grpSpPr>
        <p:sp>
          <p:nvSpPr>
            <p:cNvPr id="681" name="Freeform: Shape 4"/>
            <p:cNvSpPr/>
            <p:nvPr/>
          </p:nvSpPr>
          <p:spPr>
            <a:xfrm flipH="1">
              <a:off x="11133000" y="5727600"/>
              <a:ext cx="465120" cy="465120"/>
            </a:xfrm>
            <a:custGeom>
              <a:avLst/>
              <a:gdLst/>
              <a:ahLst/>
              <a:rect l="l" t="t" r="r" b="b"/>
              <a:pathLst>
                <a:path w="1692442" h="1692442">
                  <a:moveTo>
                    <a:pt x="0" y="0"/>
                  </a:moveTo>
                  <a:cubicBezTo>
                    <a:pt x="934710" y="0"/>
                    <a:pt x="1692442" y="757732"/>
                    <a:pt x="1692442" y="1692442"/>
                  </a:cubicBezTo>
                  <a:lnTo>
                    <a:pt x="0" y="16924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8d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Roboto"/>
              </a:endParaRPr>
            </a:p>
          </p:txBody>
        </p:sp>
        <p:sp>
          <p:nvSpPr>
            <p:cNvPr id="682" name="Freeform: Shape 5"/>
            <p:cNvSpPr/>
            <p:nvPr/>
          </p:nvSpPr>
          <p:spPr>
            <a:xfrm flipH="1">
              <a:off x="11270520" y="5865480"/>
              <a:ext cx="327240" cy="327240"/>
            </a:xfrm>
            <a:custGeom>
              <a:avLst/>
              <a:gdLst/>
              <a:ahLst/>
              <a:rect l="l" t="t" r="r" b="b"/>
              <a:pathLst>
                <a:path w="1692442" h="1692442">
                  <a:moveTo>
                    <a:pt x="0" y="0"/>
                  </a:moveTo>
                  <a:cubicBezTo>
                    <a:pt x="934710" y="0"/>
                    <a:pt x="1692442" y="757732"/>
                    <a:pt x="1692442" y="1692442"/>
                  </a:cubicBezTo>
                  <a:lnTo>
                    <a:pt x="0" y="16924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82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Roboto"/>
              </a:endParaRPr>
            </a:p>
          </p:txBody>
        </p:sp>
      </p:grpSp>
      <p:sp>
        <p:nvSpPr>
          <p:cNvPr id="683" name="TextBox 6"/>
          <p:cNvSpPr/>
          <p:nvPr/>
        </p:nvSpPr>
        <p:spPr>
          <a:xfrm>
            <a:off x="10225080" y="64440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c6c6"/>
                </a:solidFill>
                <a:latin typeface="Roboto"/>
              </a:rPr>
              <a:t>Happy New Years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84" name="Rectangle 8"/>
          <p:cNvSpPr/>
          <p:nvPr/>
        </p:nvSpPr>
        <p:spPr>
          <a:xfrm>
            <a:off x="6165720" y="3598920"/>
            <a:ext cx="2227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dfdddd"/>
                </a:solidFill>
                <a:latin typeface="Roboto"/>
              </a:rPr>
              <a:t>Lorem ipsum dolor sit amet conse ctetur adipiscing elit.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85" name="TextBox 10"/>
          <p:cNvSpPr/>
          <p:nvPr/>
        </p:nvSpPr>
        <p:spPr>
          <a:xfrm flipH="1">
            <a:off x="6159600" y="3133800"/>
            <a:ext cx="220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7e6e6"/>
                </a:solidFill>
                <a:latin typeface="Roboto"/>
              </a:rPr>
              <a:t>Mission Here</a:t>
            </a:r>
            <a:endParaRPr b="0" lang="en-US" sz="16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86" name="Rectangle 12"/>
          <p:cNvSpPr/>
          <p:nvPr/>
        </p:nvSpPr>
        <p:spPr>
          <a:xfrm>
            <a:off x="6159600" y="3338640"/>
            <a:ext cx="17571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200" spc="-1" strike="noStrike">
                <a:solidFill>
                  <a:srgbClr val="dfdddd"/>
                </a:solidFill>
                <a:latin typeface="Roboto"/>
              </a:rPr>
              <a:t>Insert Text Here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87" name="Rectangle 14"/>
          <p:cNvSpPr/>
          <p:nvPr/>
        </p:nvSpPr>
        <p:spPr>
          <a:xfrm>
            <a:off x="6165720" y="5084640"/>
            <a:ext cx="2227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dfdddd"/>
                </a:solidFill>
                <a:latin typeface="Roboto"/>
              </a:rPr>
              <a:t>Lorem ipsum dolor sit amet conse ctetur adipiscing elit.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88" name="TextBox 16"/>
          <p:cNvSpPr/>
          <p:nvPr/>
        </p:nvSpPr>
        <p:spPr>
          <a:xfrm flipH="1">
            <a:off x="6158880" y="4619520"/>
            <a:ext cx="183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7e6e6"/>
                </a:solidFill>
                <a:latin typeface="Roboto"/>
              </a:rPr>
              <a:t>Mission Here</a:t>
            </a:r>
            <a:endParaRPr b="0" lang="en-US" sz="16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89" name="Rectangle 18"/>
          <p:cNvSpPr/>
          <p:nvPr/>
        </p:nvSpPr>
        <p:spPr>
          <a:xfrm>
            <a:off x="6159600" y="4824360"/>
            <a:ext cx="17571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200" spc="-1" strike="noStrike">
                <a:solidFill>
                  <a:srgbClr val="dfdddd"/>
                </a:solidFill>
                <a:latin typeface="Roboto"/>
              </a:rPr>
              <a:t>Insert Text Here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90" name="Rectangle 20"/>
          <p:cNvSpPr/>
          <p:nvPr/>
        </p:nvSpPr>
        <p:spPr>
          <a:xfrm>
            <a:off x="8562960" y="3598920"/>
            <a:ext cx="2227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dfdddd"/>
                </a:solidFill>
                <a:latin typeface="Roboto"/>
              </a:rPr>
              <a:t>Lorem ipsum dolor sit amet conse ctetur adipiscing elit.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91" name="TextBox 22"/>
          <p:cNvSpPr/>
          <p:nvPr/>
        </p:nvSpPr>
        <p:spPr>
          <a:xfrm flipH="1">
            <a:off x="8558280" y="3133800"/>
            <a:ext cx="18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7e6e6"/>
                </a:solidFill>
                <a:latin typeface="Roboto"/>
              </a:rPr>
              <a:t>Mission Here</a:t>
            </a:r>
            <a:endParaRPr b="0" lang="en-US" sz="16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92" name="Rectangle 24"/>
          <p:cNvSpPr/>
          <p:nvPr/>
        </p:nvSpPr>
        <p:spPr>
          <a:xfrm>
            <a:off x="8558280" y="3338640"/>
            <a:ext cx="17557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200" spc="-1" strike="noStrike">
                <a:solidFill>
                  <a:srgbClr val="dfdddd"/>
                </a:solidFill>
                <a:latin typeface="Roboto"/>
              </a:rPr>
              <a:t>Insert Text Here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93" name="Rectangle 26"/>
          <p:cNvSpPr/>
          <p:nvPr/>
        </p:nvSpPr>
        <p:spPr>
          <a:xfrm>
            <a:off x="8562960" y="5084640"/>
            <a:ext cx="2227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dfdddd"/>
                </a:solidFill>
                <a:latin typeface="Roboto"/>
              </a:rPr>
              <a:t>Lorem ipsum dolor sit amet conse ctetur adipiscing elit.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94" name="TextBox 28"/>
          <p:cNvSpPr/>
          <p:nvPr/>
        </p:nvSpPr>
        <p:spPr>
          <a:xfrm flipH="1">
            <a:off x="8558280" y="4619520"/>
            <a:ext cx="18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7e6e6"/>
                </a:solidFill>
                <a:latin typeface="Roboto"/>
              </a:rPr>
              <a:t>Mission Here</a:t>
            </a:r>
            <a:endParaRPr b="0" lang="en-US" sz="16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95" name="Rectangle 30"/>
          <p:cNvSpPr/>
          <p:nvPr/>
        </p:nvSpPr>
        <p:spPr>
          <a:xfrm>
            <a:off x="8558280" y="4824360"/>
            <a:ext cx="17557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200" spc="-1" strike="noStrike">
                <a:solidFill>
                  <a:srgbClr val="dfdddd"/>
                </a:solidFill>
                <a:latin typeface="Roboto"/>
              </a:rPr>
              <a:t>Insert Text Here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96" name="TextBox 32"/>
          <p:cNvSpPr/>
          <p:nvPr/>
        </p:nvSpPr>
        <p:spPr>
          <a:xfrm>
            <a:off x="6159600" y="1557360"/>
            <a:ext cx="386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 Bold"/>
              </a:rPr>
              <a:t>The Missions Of </a:t>
            </a:r>
            <a:r>
              <a:rPr b="0" lang="en-US" sz="3200" spc="-1" strike="noStrike">
                <a:solidFill>
                  <a:srgbClr val="ec8d0e"/>
                </a:solidFill>
                <a:latin typeface="Cabin Bold"/>
              </a:rPr>
              <a:t>Firework Agency.</a:t>
            </a:r>
            <a:endParaRPr b="0" lang="en-US" sz="32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Freeform: Shape 1"/>
          <p:cNvSpPr/>
          <p:nvPr/>
        </p:nvSpPr>
        <p:spPr>
          <a:xfrm flipH="1" flipV="1">
            <a:off x="8729640" y="3378960"/>
            <a:ext cx="2890800" cy="2916360"/>
          </a:xfrm>
          <a:custGeom>
            <a:avLst/>
            <a:gdLst/>
            <a:ahLst/>
            <a:rect l="l" t="t" r="r" b="b"/>
            <a:pathLst>
              <a:path w="2477127" h="2499398">
                <a:moveTo>
                  <a:pt x="2477127" y="0"/>
                </a:moveTo>
                <a:lnTo>
                  <a:pt x="2477127" y="2499398"/>
                </a:lnTo>
                <a:lnTo>
                  <a:pt x="0" y="2499398"/>
                </a:lnTo>
                <a:lnTo>
                  <a:pt x="11358" y="2259505"/>
                </a:lnTo>
                <a:cubicBezTo>
                  <a:pt x="124079" y="1075227"/>
                  <a:pt x="1062789" y="131777"/>
                  <a:pt x="2244914" y="11725"/>
                </a:cubicBezTo>
                <a:lnTo>
                  <a:pt x="2477127" y="0"/>
                </a:lnTo>
                <a:close/>
              </a:path>
            </a:pathLst>
          </a:custGeom>
          <a:solidFill>
            <a:srgbClr val="ec8d0e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98" name="Oval 2"/>
          <p:cNvSpPr/>
          <p:nvPr/>
        </p:nvSpPr>
        <p:spPr>
          <a:xfrm>
            <a:off x="609480" y="673200"/>
            <a:ext cx="123840" cy="123840"/>
          </a:xfrm>
          <a:prstGeom prst="ellipse">
            <a:avLst/>
          </a:pr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99" name="Oval 4"/>
          <p:cNvSpPr/>
          <p:nvPr/>
        </p:nvSpPr>
        <p:spPr>
          <a:xfrm>
            <a:off x="866880" y="673200"/>
            <a:ext cx="122040" cy="123840"/>
          </a:xfrm>
          <a:prstGeom prst="ellipse">
            <a:avLst/>
          </a:pr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00" name="Oval 6"/>
          <p:cNvSpPr/>
          <p:nvPr/>
        </p:nvSpPr>
        <p:spPr>
          <a:xfrm>
            <a:off x="1122480" y="673200"/>
            <a:ext cx="123840" cy="123840"/>
          </a:xfrm>
          <a:prstGeom prst="ellipse">
            <a:avLst/>
          </a:pr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01" name="Oval 8"/>
          <p:cNvSpPr/>
          <p:nvPr/>
        </p:nvSpPr>
        <p:spPr>
          <a:xfrm>
            <a:off x="866880" y="934920"/>
            <a:ext cx="122040" cy="123840"/>
          </a:xfrm>
          <a:prstGeom prst="ellipse">
            <a:avLst/>
          </a:pr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02" name="TextBox 12"/>
          <p:cNvSpPr/>
          <p:nvPr/>
        </p:nvSpPr>
        <p:spPr>
          <a:xfrm>
            <a:off x="528480" y="6024600"/>
            <a:ext cx="1646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9c6c6"/>
                </a:solidFill>
                <a:latin typeface="Roboto"/>
              </a:rPr>
              <a:t>The Firework Celebration</a:t>
            </a:r>
            <a:endParaRPr b="0" lang="en-US" sz="9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03" name="Google Shape;451;p21"/>
          <p:cNvSpPr/>
          <p:nvPr/>
        </p:nvSpPr>
        <p:spPr>
          <a:xfrm>
            <a:off x="2166840" y="3048120"/>
            <a:ext cx="366264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ddd"/>
                </a:solidFill>
                <a:latin typeface="Roboto"/>
                <a:ea typeface="Raleway"/>
              </a:rPr>
              <a:t>Lorem ipsum dolor sit amet, conse lectus ornare, viverra ctetur adipiscing elit. Pellentesque sceleretil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04" name="Google Shape;452;p21"/>
          <p:cNvSpPr/>
          <p:nvPr/>
        </p:nvSpPr>
        <p:spPr>
          <a:xfrm>
            <a:off x="1519200" y="3125880"/>
            <a:ext cx="457200" cy="457200"/>
          </a:xfrm>
          <a:prstGeom prst="ellipse">
            <a:avLst/>
          </a:pr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Roboto"/>
                <a:ea typeface="Raleway"/>
              </a:rPr>
              <a:t>01</a:t>
            </a:r>
            <a:endParaRPr b="0" lang="en-US" sz="9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05" name="Google Shape;453;p21"/>
          <p:cNvSpPr/>
          <p:nvPr/>
        </p:nvSpPr>
        <p:spPr>
          <a:xfrm>
            <a:off x="2166840" y="3967200"/>
            <a:ext cx="366264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ddd"/>
                </a:solidFill>
                <a:latin typeface="Roboto"/>
                <a:ea typeface="Raleway"/>
              </a:rPr>
              <a:t>Lorem ipsum dolor sit amet, conse lectus ornare, viverra ctetur adipiscing elit. Pellentesque sceleretil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06" name="Google Shape;454;p21"/>
          <p:cNvSpPr/>
          <p:nvPr/>
        </p:nvSpPr>
        <p:spPr>
          <a:xfrm>
            <a:off x="1519200" y="4044960"/>
            <a:ext cx="457200" cy="457200"/>
          </a:xfrm>
          <a:prstGeom prst="ellipse">
            <a:avLst/>
          </a:pr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Roboto"/>
                <a:ea typeface="Raleway"/>
              </a:rPr>
              <a:t>02</a:t>
            </a:r>
            <a:endParaRPr b="0" lang="en-US" sz="9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07" name="Google Shape;455;p21"/>
          <p:cNvSpPr/>
          <p:nvPr/>
        </p:nvSpPr>
        <p:spPr>
          <a:xfrm>
            <a:off x="2166840" y="4886280"/>
            <a:ext cx="366264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ddd"/>
                </a:solidFill>
                <a:latin typeface="Roboto"/>
                <a:ea typeface="Raleway"/>
              </a:rPr>
              <a:t>Lorem ipsum dolor sit amet, conse lectus ornare, viverra ctetur adipiscing elit. Pellentesque sceleretil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08" name="Google Shape;456;p21"/>
          <p:cNvSpPr/>
          <p:nvPr/>
        </p:nvSpPr>
        <p:spPr>
          <a:xfrm>
            <a:off x="1519200" y="4964040"/>
            <a:ext cx="457200" cy="457200"/>
          </a:xfrm>
          <a:prstGeom prst="ellipse">
            <a:avLst/>
          </a:pr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Roboto"/>
                <a:ea typeface="Raleway"/>
              </a:rPr>
              <a:t>03</a:t>
            </a:r>
            <a:endParaRPr b="0" lang="en-US" sz="9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09" name="TextBox 21"/>
          <p:cNvSpPr/>
          <p:nvPr/>
        </p:nvSpPr>
        <p:spPr>
          <a:xfrm>
            <a:off x="1433520" y="1541520"/>
            <a:ext cx="3666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 Bold"/>
              </a:rPr>
              <a:t>Let’s Be Creative </a:t>
            </a:r>
            <a:r>
              <a:rPr b="0" lang="en-US" sz="3200" spc="-1" strike="noStrike">
                <a:solidFill>
                  <a:srgbClr val="ec8d0e"/>
                </a:solidFill>
                <a:latin typeface="Cabin Bold"/>
              </a:rPr>
              <a:t>For The Best Event.</a:t>
            </a:r>
            <a:endParaRPr b="0" lang="en-US" sz="32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Freeform: Shape 1"/>
          <p:cNvSpPr/>
          <p:nvPr/>
        </p:nvSpPr>
        <p:spPr>
          <a:xfrm flipH="1">
            <a:off x="639720" y="1023840"/>
            <a:ext cx="2325600" cy="2325960"/>
          </a:xfrm>
          <a:custGeom>
            <a:avLst/>
            <a:gdLst/>
            <a:ahLst/>
            <a:rect l="l" t="t" r="r" b="b"/>
            <a:pathLst>
              <a:path w="1692442" h="1692442">
                <a:moveTo>
                  <a:pt x="0" y="0"/>
                </a:moveTo>
                <a:cubicBezTo>
                  <a:pt x="934710" y="0"/>
                  <a:pt x="1692442" y="757732"/>
                  <a:pt x="1692442" y="1692442"/>
                </a:cubicBezTo>
                <a:lnTo>
                  <a:pt x="0" y="1692442"/>
                </a:lnTo>
                <a:lnTo>
                  <a:pt x="0" y="0"/>
                </a:lnTo>
                <a:close/>
              </a:path>
            </a:pathLst>
          </a:custGeom>
          <a:solidFill>
            <a:srgbClr val="ec8d0e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grpSp>
        <p:nvGrpSpPr>
          <p:cNvPr id="711" name="Group 3"/>
          <p:cNvGrpSpPr/>
          <p:nvPr/>
        </p:nvGrpSpPr>
        <p:grpSpPr>
          <a:xfrm>
            <a:off x="11133000" y="5727600"/>
            <a:ext cx="465120" cy="465120"/>
            <a:chOff x="11133000" y="5727600"/>
            <a:chExt cx="465120" cy="465120"/>
          </a:xfrm>
        </p:grpSpPr>
        <p:sp>
          <p:nvSpPr>
            <p:cNvPr id="712" name="Freeform: Shape 4"/>
            <p:cNvSpPr/>
            <p:nvPr/>
          </p:nvSpPr>
          <p:spPr>
            <a:xfrm flipH="1">
              <a:off x="11133000" y="5727600"/>
              <a:ext cx="465120" cy="465120"/>
            </a:xfrm>
            <a:custGeom>
              <a:avLst/>
              <a:gdLst/>
              <a:ahLst/>
              <a:rect l="l" t="t" r="r" b="b"/>
              <a:pathLst>
                <a:path w="1692442" h="1692442">
                  <a:moveTo>
                    <a:pt x="0" y="0"/>
                  </a:moveTo>
                  <a:cubicBezTo>
                    <a:pt x="934710" y="0"/>
                    <a:pt x="1692442" y="757732"/>
                    <a:pt x="1692442" y="1692442"/>
                  </a:cubicBezTo>
                  <a:lnTo>
                    <a:pt x="0" y="16924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8d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Roboto"/>
              </a:endParaRPr>
            </a:p>
          </p:txBody>
        </p:sp>
        <p:sp>
          <p:nvSpPr>
            <p:cNvPr id="713" name="Freeform: Shape 5"/>
            <p:cNvSpPr/>
            <p:nvPr/>
          </p:nvSpPr>
          <p:spPr>
            <a:xfrm flipH="1">
              <a:off x="11270520" y="5865480"/>
              <a:ext cx="327240" cy="327240"/>
            </a:xfrm>
            <a:custGeom>
              <a:avLst/>
              <a:gdLst/>
              <a:ahLst/>
              <a:rect l="l" t="t" r="r" b="b"/>
              <a:pathLst>
                <a:path w="1692442" h="1692442">
                  <a:moveTo>
                    <a:pt x="0" y="0"/>
                  </a:moveTo>
                  <a:cubicBezTo>
                    <a:pt x="934710" y="0"/>
                    <a:pt x="1692442" y="757732"/>
                    <a:pt x="1692442" y="1692442"/>
                  </a:cubicBezTo>
                  <a:lnTo>
                    <a:pt x="0" y="16924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82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Roboto"/>
              </a:endParaRPr>
            </a:p>
          </p:txBody>
        </p:sp>
      </p:grpSp>
      <p:sp>
        <p:nvSpPr>
          <p:cNvPr id="714" name="TextBox 6"/>
          <p:cNvSpPr/>
          <p:nvPr/>
        </p:nvSpPr>
        <p:spPr>
          <a:xfrm>
            <a:off x="10225080" y="64440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c6c6"/>
                </a:solidFill>
                <a:latin typeface="Roboto"/>
              </a:rPr>
              <a:t>Happy New Years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15" name="Google Shape;324;p16"/>
          <p:cNvSpPr/>
          <p:nvPr/>
        </p:nvSpPr>
        <p:spPr>
          <a:xfrm>
            <a:off x="6815160" y="3403440"/>
            <a:ext cx="391644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ddd"/>
                </a:solidFill>
                <a:latin typeface="Roboto"/>
                <a:ea typeface="Raleway"/>
              </a:rPr>
              <a:t>Lorem ipsum dolor sit amet, conse lectus ornare, vive rra ctetur adipiscing elit. Pellentesque scele risque male suada libero a pellentesque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16" name="Google Shape;325;p16"/>
          <p:cNvSpPr/>
          <p:nvPr/>
        </p:nvSpPr>
        <p:spPr>
          <a:xfrm>
            <a:off x="6802560" y="3164040"/>
            <a:ext cx="2774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7e6e6"/>
                </a:solidFill>
                <a:latin typeface="Roboto"/>
                <a:ea typeface="Raleway"/>
              </a:rPr>
              <a:t>Philosophy Here</a:t>
            </a:r>
            <a:endParaRPr b="0" lang="en-US" sz="16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17" name="Google Shape;326;p16"/>
          <p:cNvSpPr/>
          <p:nvPr/>
        </p:nvSpPr>
        <p:spPr>
          <a:xfrm>
            <a:off x="5983200" y="3090960"/>
            <a:ext cx="123048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7e6e6"/>
                </a:solidFill>
                <a:latin typeface="Roboto"/>
                <a:ea typeface="Raleway"/>
              </a:rPr>
              <a:t>01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18" name="Google Shape;324;p16"/>
          <p:cNvSpPr/>
          <p:nvPr/>
        </p:nvSpPr>
        <p:spPr>
          <a:xfrm>
            <a:off x="6815160" y="4789440"/>
            <a:ext cx="3916440" cy="9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ddd"/>
                </a:solidFill>
                <a:latin typeface="Roboto"/>
                <a:ea typeface="Raleway"/>
              </a:rPr>
              <a:t>Lorem ipsum dolor sit amet, conse lectus ornare, vive rra ctetur adipiscing elit. Pellentesque scele risque male suada libero a pellentesque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19" name="Google Shape;325;p16"/>
          <p:cNvSpPr/>
          <p:nvPr/>
        </p:nvSpPr>
        <p:spPr>
          <a:xfrm>
            <a:off x="6802560" y="4549680"/>
            <a:ext cx="27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7e6e6"/>
                </a:solidFill>
                <a:latin typeface="Roboto"/>
                <a:ea typeface="Raleway"/>
              </a:rPr>
              <a:t>Philosophy Here</a:t>
            </a:r>
            <a:endParaRPr b="0" lang="en-US" sz="16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20" name="Google Shape;326;p16"/>
          <p:cNvSpPr/>
          <p:nvPr/>
        </p:nvSpPr>
        <p:spPr>
          <a:xfrm>
            <a:off x="5983200" y="4476600"/>
            <a:ext cx="123048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7e6e6"/>
                </a:solidFill>
                <a:latin typeface="Roboto"/>
                <a:ea typeface="Raleway"/>
              </a:rPr>
              <a:t>02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21" name="TextBox 20"/>
          <p:cNvSpPr/>
          <p:nvPr/>
        </p:nvSpPr>
        <p:spPr>
          <a:xfrm>
            <a:off x="5983200" y="1557360"/>
            <a:ext cx="385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 Bold"/>
              </a:rPr>
              <a:t>The Philosophy Of </a:t>
            </a:r>
            <a:r>
              <a:rPr b="0" lang="en-US" sz="3200" spc="-1" strike="noStrike">
                <a:solidFill>
                  <a:srgbClr val="ec8d0e"/>
                </a:solidFill>
                <a:latin typeface="Cabin Bold"/>
              </a:rPr>
              <a:t>Firework Agency.</a:t>
            </a:r>
            <a:endParaRPr b="0" lang="en-US" sz="32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Freeform: Shape 22"/>
          <p:cNvSpPr/>
          <p:nvPr/>
        </p:nvSpPr>
        <p:spPr>
          <a:xfrm flipH="1" flipV="1">
            <a:off x="8774280" y="3428280"/>
            <a:ext cx="2046240" cy="2063880"/>
          </a:xfrm>
          <a:custGeom>
            <a:avLst/>
            <a:gdLst/>
            <a:ahLst/>
            <a:rect l="l" t="t" r="r" b="b"/>
            <a:pathLst>
              <a:path w="2477127" h="2499398">
                <a:moveTo>
                  <a:pt x="2477127" y="0"/>
                </a:moveTo>
                <a:lnTo>
                  <a:pt x="2477127" y="2499398"/>
                </a:lnTo>
                <a:lnTo>
                  <a:pt x="0" y="2499398"/>
                </a:lnTo>
                <a:lnTo>
                  <a:pt x="11358" y="2259505"/>
                </a:lnTo>
                <a:cubicBezTo>
                  <a:pt x="124079" y="1075227"/>
                  <a:pt x="1062789" y="131777"/>
                  <a:pt x="2244914" y="11725"/>
                </a:cubicBezTo>
                <a:lnTo>
                  <a:pt x="2477127" y="0"/>
                </a:lnTo>
                <a:close/>
              </a:path>
            </a:pathLst>
          </a:custGeom>
          <a:solidFill>
            <a:srgbClr val="ec8d0e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23" name="Oval 1"/>
          <p:cNvSpPr/>
          <p:nvPr/>
        </p:nvSpPr>
        <p:spPr>
          <a:xfrm>
            <a:off x="609480" y="673200"/>
            <a:ext cx="123840" cy="123840"/>
          </a:xfrm>
          <a:prstGeom prst="ellipse">
            <a:avLst/>
          </a:pr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24" name="Oval 2"/>
          <p:cNvSpPr/>
          <p:nvPr/>
        </p:nvSpPr>
        <p:spPr>
          <a:xfrm>
            <a:off x="866880" y="673200"/>
            <a:ext cx="122040" cy="123840"/>
          </a:xfrm>
          <a:prstGeom prst="ellipse">
            <a:avLst/>
          </a:pr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25" name="Oval 4"/>
          <p:cNvSpPr/>
          <p:nvPr/>
        </p:nvSpPr>
        <p:spPr>
          <a:xfrm>
            <a:off x="1122480" y="673200"/>
            <a:ext cx="123840" cy="123840"/>
          </a:xfrm>
          <a:prstGeom prst="ellipse">
            <a:avLst/>
          </a:pr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26" name="Oval 6"/>
          <p:cNvSpPr/>
          <p:nvPr/>
        </p:nvSpPr>
        <p:spPr>
          <a:xfrm>
            <a:off x="866880" y="934920"/>
            <a:ext cx="122040" cy="123840"/>
          </a:xfrm>
          <a:prstGeom prst="ellipse">
            <a:avLst/>
          </a:pr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27" name="TextBox 8"/>
          <p:cNvSpPr/>
          <p:nvPr/>
        </p:nvSpPr>
        <p:spPr>
          <a:xfrm>
            <a:off x="528480" y="6024600"/>
            <a:ext cx="1646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9c6c6"/>
                </a:solidFill>
                <a:latin typeface="Roboto"/>
              </a:rPr>
              <a:t>The Firework Celebration</a:t>
            </a:r>
            <a:endParaRPr b="0" lang="en-US" sz="9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28" name="Rectangle 3"/>
          <p:cNvSpPr/>
          <p:nvPr/>
        </p:nvSpPr>
        <p:spPr>
          <a:xfrm>
            <a:off x="1452600" y="3598920"/>
            <a:ext cx="2227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dfdddd"/>
                </a:solidFill>
                <a:latin typeface="Roboto"/>
              </a:rPr>
              <a:t>Lorem ipsum dolor sit amet conse ctetur adipiscing elit.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29" name="TextBox 5"/>
          <p:cNvSpPr/>
          <p:nvPr/>
        </p:nvSpPr>
        <p:spPr>
          <a:xfrm flipH="1">
            <a:off x="1446120" y="3133800"/>
            <a:ext cx="220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7e6e6"/>
                </a:solidFill>
                <a:latin typeface="Roboto"/>
              </a:rPr>
              <a:t>Achievement Here</a:t>
            </a:r>
            <a:endParaRPr b="0" lang="en-US" sz="16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30" name="Rectangle 7"/>
          <p:cNvSpPr/>
          <p:nvPr/>
        </p:nvSpPr>
        <p:spPr>
          <a:xfrm>
            <a:off x="1446120" y="3338640"/>
            <a:ext cx="17575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200" spc="-1" strike="noStrike">
                <a:solidFill>
                  <a:srgbClr val="dfdddd"/>
                </a:solidFill>
                <a:latin typeface="Roboto"/>
              </a:rPr>
              <a:t>Insert Text Here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31" name="Rectangle 11"/>
          <p:cNvSpPr/>
          <p:nvPr/>
        </p:nvSpPr>
        <p:spPr>
          <a:xfrm>
            <a:off x="1452600" y="5084640"/>
            <a:ext cx="2227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dfdddd"/>
                </a:solidFill>
                <a:latin typeface="Roboto"/>
              </a:rPr>
              <a:t>Lorem ipsum dolor sit amet conse ctetur adipiscing elit.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32" name="TextBox 13"/>
          <p:cNvSpPr/>
          <p:nvPr/>
        </p:nvSpPr>
        <p:spPr>
          <a:xfrm flipH="1">
            <a:off x="1445400" y="4619520"/>
            <a:ext cx="2000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7e6e6"/>
                </a:solidFill>
                <a:latin typeface="Roboto"/>
              </a:rPr>
              <a:t>Achievement Here</a:t>
            </a:r>
            <a:endParaRPr b="0" lang="en-US" sz="16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33" name="Rectangle 15"/>
          <p:cNvSpPr/>
          <p:nvPr/>
        </p:nvSpPr>
        <p:spPr>
          <a:xfrm>
            <a:off x="1446120" y="4824360"/>
            <a:ext cx="17575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200" spc="-1" strike="noStrike">
                <a:solidFill>
                  <a:srgbClr val="dfdddd"/>
                </a:solidFill>
                <a:latin typeface="Roboto"/>
              </a:rPr>
              <a:t>Insert Text Here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34" name="Rectangle 17"/>
          <p:cNvSpPr/>
          <p:nvPr/>
        </p:nvSpPr>
        <p:spPr>
          <a:xfrm>
            <a:off x="3978360" y="3598920"/>
            <a:ext cx="2227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dfdddd"/>
                </a:solidFill>
                <a:latin typeface="Roboto"/>
              </a:rPr>
              <a:t>Lorem ipsum dolor sit amet conse ctetur adipiscing elit.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35" name="TextBox 19"/>
          <p:cNvSpPr/>
          <p:nvPr/>
        </p:nvSpPr>
        <p:spPr>
          <a:xfrm flipH="1">
            <a:off x="3972960" y="3133800"/>
            <a:ext cx="199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7e6e6"/>
                </a:solidFill>
                <a:latin typeface="Roboto"/>
              </a:rPr>
              <a:t>Achievement Here</a:t>
            </a:r>
            <a:endParaRPr b="0" lang="en-US" sz="16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36" name="Rectangle 25"/>
          <p:cNvSpPr/>
          <p:nvPr/>
        </p:nvSpPr>
        <p:spPr>
          <a:xfrm>
            <a:off x="3973680" y="3338640"/>
            <a:ext cx="17557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200" spc="-1" strike="noStrike">
                <a:solidFill>
                  <a:srgbClr val="dfdddd"/>
                </a:solidFill>
                <a:latin typeface="Roboto"/>
              </a:rPr>
              <a:t>Insert Text Here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37" name="Rectangle 27"/>
          <p:cNvSpPr/>
          <p:nvPr/>
        </p:nvSpPr>
        <p:spPr>
          <a:xfrm>
            <a:off x="3978360" y="5084640"/>
            <a:ext cx="2227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dfdddd"/>
                </a:solidFill>
                <a:latin typeface="Roboto"/>
              </a:rPr>
              <a:t>Lorem ipsum dolor sit amet conse ctetur adipiscing elit.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38" name="TextBox 29"/>
          <p:cNvSpPr/>
          <p:nvPr/>
        </p:nvSpPr>
        <p:spPr>
          <a:xfrm flipH="1">
            <a:off x="3972960" y="4619520"/>
            <a:ext cx="199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7e6e6"/>
                </a:solidFill>
                <a:latin typeface="Roboto"/>
              </a:rPr>
              <a:t>Achievement Here</a:t>
            </a:r>
            <a:endParaRPr b="0" lang="en-US" sz="16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39" name="Rectangle 31"/>
          <p:cNvSpPr/>
          <p:nvPr/>
        </p:nvSpPr>
        <p:spPr>
          <a:xfrm>
            <a:off x="3973680" y="4824360"/>
            <a:ext cx="17557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200" spc="-1" strike="noStrike">
                <a:solidFill>
                  <a:srgbClr val="dfdddd"/>
                </a:solidFill>
                <a:latin typeface="Roboto"/>
              </a:rPr>
              <a:t>Insert Text Here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40" name="TextBox 33"/>
          <p:cNvSpPr/>
          <p:nvPr/>
        </p:nvSpPr>
        <p:spPr>
          <a:xfrm>
            <a:off x="1446120" y="1557360"/>
            <a:ext cx="386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 Bold"/>
              </a:rPr>
              <a:t>The Achievement Of </a:t>
            </a:r>
            <a:r>
              <a:rPr b="0" lang="en-US" sz="3200" spc="-1" strike="noStrike">
                <a:solidFill>
                  <a:srgbClr val="ec8d0e"/>
                </a:solidFill>
                <a:latin typeface="Cabin Bold"/>
              </a:rPr>
              <a:t>Firework Agency.</a:t>
            </a:r>
            <a:endParaRPr b="0" lang="en-US" sz="32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1" name="Group 2"/>
          <p:cNvGrpSpPr/>
          <p:nvPr/>
        </p:nvGrpSpPr>
        <p:grpSpPr>
          <a:xfrm>
            <a:off x="11133000" y="5727600"/>
            <a:ext cx="465120" cy="465120"/>
            <a:chOff x="11133000" y="5727600"/>
            <a:chExt cx="465120" cy="465120"/>
          </a:xfrm>
        </p:grpSpPr>
        <p:sp>
          <p:nvSpPr>
            <p:cNvPr id="742" name="Freeform: Shape 3"/>
            <p:cNvSpPr/>
            <p:nvPr/>
          </p:nvSpPr>
          <p:spPr>
            <a:xfrm flipH="1">
              <a:off x="11133000" y="5727600"/>
              <a:ext cx="465120" cy="465120"/>
            </a:xfrm>
            <a:custGeom>
              <a:avLst/>
              <a:gdLst/>
              <a:ahLst/>
              <a:rect l="l" t="t" r="r" b="b"/>
              <a:pathLst>
                <a:path w="1692442" h="1692442">
                  <a:moveTo>
                    <a:pt x="0" y="0"/>
                  </a:moveTo>
                  <a:cubicBezTo>
                    <a:pt x="934710" y="0"/>
                    <a:pt x="1692442" y="757732"/>
                    <a:pt x="1692442" y="1692442"/>
                  </a:cubicBezTo>
                  <a:lnTo>
                    <a:pt x="0" y="16924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8d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Roboto"/>
              </a:endParaRPr>
            </a:p>
          </p:txBody>
        </p:sp>
        <p:sp>
          <p:nvSpPr>
            <p:cNvPr id="743" name="Freeform: Shape 4"/>
            <p:cNvSpPr/>
            <p:nvPr/>
          </p:nvSpPr>
          <p:spPr>
            <a:xfrm flipH="1">
              <a:off x="11270520" y="5865480"/>
              <a:ext cx="327240" cy="327240"/>
            </a:xfrm>
            <a:custGeom>
              <a:avLst/>
              <a:gdLst/>
              <a:ahLst/>
              <a:rect l="l" t="t" r="r" b="b"/>
              <a:pathLst>
                <a:path w="1692442" h="1692442">
                  <a:moveTo>
                    <a:pt x="0" y="0"/>
                  </a:moveTo>
                  <a:cubicBezTo>
                    <a:pt x="934710" y="0"/>
                    <a:pt x="1692442" y="757732"/>
                    <a:pt x="1692442" y="1692442"/>
                  </a:cubicBezTo>
                  <a:lnTo>
                    <a:pt x="0" y="16924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82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Roboto"/>
              </a:endParaRPr>
            </a:p>
          </p:txBody>
        </p:sp>
      </p:grpSp>
      <p:sp>
        <p:nvSpPr>
          <p:cNvPr id="744" name="TextBox 5"/>
          <p:cNvSpPr/>
          <p:nvPr/>
        </p:nvSpPr>
        <p:spPr>
          <a:xfrm>
            <a:off x="10225080" y="64440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c6c6"/>
                </a:solidFill>
                <a:latin typeface="Roboto"/>
              </a:rPr>
              <a:t>Happy New Years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45" name="Google Shape;451;p21"/>
          <p:cNvSpPr/>
          <p:nvPr/>
        </p:nvSpPr>
        <p:spPr>
          <a:xfrm>
            <a:off x="7070760" y="3255840"/>
            <a:ext cx="36622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ddd"/>
                </a:solidFill>
                <a:latin typeface="Roboto"/>
                <a:ea typeface="Raleway"/>
              </a:rPr>
              <a:t>Lorem ipsum dolor sit amet, conse lectus ornare, viverra ctetur adipiscing elit. Pellentesque sceleretil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46" name="Google Shape;452;p21"/>
          <p:cNvSpPr/>
          <p:nvPr/>
        </p:nvSpPr>
        <p:spPr>
          <a:xfrm>
            <a:off x="6423120" y="3335400"/>
            <a:ext cx="457200" cy="457200"/>
          </a:xfrm>
          <a:prstGeom prst="ellipse">
            <a:avLst/>
          </a:pr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Roboto"/>
                <a:ea typeface="Raleway"/>
              </a:rPr>
              <a:t>01</a:t>
            </a:r>
            <a:endParaRPr b="0" lang="en-US" sz="9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47" name="Google Shape;453;p21"/>
          <p:cNvSpPr/>
          <p:nvPr/>
        </p:nvSpPr>
        <p:spPr>
          <a:xfrm>
            <a:off x="7070760" y="4175280"/>
            <a:ext cx="36622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ddd"/>
                </a:solidFill>
                <a:latin typeface="Roboto"/>
                <a:ea typeface="Raleway"/>
              </a:rPr>
              <a:t>Lorem ipsum dolor sit amet, conse lectus ornare, viverra ctetur adipiscing elit. Pellentesque sceleretil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48" name="Google Shape;454;p21"/>
          <p:cNvSpPr/>
          <p:nvPr/>
        </p:nvSpPr>
        <p:spPr>
          <a:xfrm>
            <a:off x="6423120" y="4254480"/>
            <a:ext cx="457200" cy="457200"/>
          </a:xfrm>
          <a:prstGeom prst="ellipse">
            <a:avLst/>
          </a:pr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Roboto"/>
                <a:ea typeface="Raleway"/>
              </a:rPr>
              <a:t>02</a:t>
            </a:r>
            <a:endParaRPr b="0" lang="en-US" sz="9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49" name="Google Shape;455;p21"/>
          <p:cNvSpPr/>
          <p:nvPr/>
        </p:nvSpPr>
        <p:spPr>
          <a:xfrm>
            <a:off x="7070760" y="5094360"/>
            <a:ext cx="36622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ddd"/>
                </a:solidFill>
                <a:latin typeface="Roboto"/>
                <a:ea typeface="Raleway"/>
              </a:rPr>
              <a:t>Lorem ipsum dolor sit amet, conse lectus ornare, viverra ctetur adipiscing elit. Pellentesque sceleretil</a:t>
            </a:r>
            <a:endParaRPr b="0" lang="en-US" sz="12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50" name="Google Shape;456;p21"/>
          <p:cNvSpPr/>
          <p:nvPr/>
        </p:nvSpPr>
        <p:spPr>
          <a:xfrm>
            <a:off x="6423120" y="5173560"/>
            <a:ext cx="457200" cy="457200"/>
          </a:xfrm>
          <a:prstGeom prst="ellipse">
            <a:avLst/>
          </a:prstGeom>
          <a:solidFill>
            <a:srgbClr val="ec8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Roboto"/>
                <a:ea typeface="Raleway"/>
              </a:rPr>
              <a:t>03</a:t>
            </a:r>
            <a:endParaRPr b="0" lang="en-US" sz="9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51" name="TextBox 19"/>
          <p:cNvSpPr/>
          <p:nvPr/>
        </p:nvSpPr>
        <p:spPr>
          <a:xfrm>
            <a:off x="6338880" y="1751040"/>
            <a:ext cx="366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 Bold"/>
              </a:rPr>
              <a:t>Three Rule For </a:t>
            </a:r>
            <a:r>
              <a:rPr b="0" lang="en-US" sz="3200" spc="-1" strike="noStrike">
                <a:solidFill>
                  <a:srgbClr val="ec8d0e"/>
                </a:solidFill>
                <a:latin typeface="Cabin Bold"/>
              </a:rPr>
              <a:t>Creative Values.</a:t>
            </a:r>
            <a:endParaRPr b="0" lang="en-US" sz="32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28T18:41:41Z</dcterms:created>
  <dc:creator>David Ma</dc:creator>
  <dc:description/>
  <dc:language>en-US</dc:language>
  <cp:lastModifiedBy>David Ma</cp:lastModifiedBy>
  <dcterms:modified xsi:type="dcterms:W3CDTF">2020-11-20T13:04:58Z</dcterms:modified>
  <cp:revision>134</cp:revision>
  <dc:subject/>
  <dc:title>PowerPoint Presentation</dc:title>
</cp:coreProperties>
</file>